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FB61B2-9C8B-4C61-B6E5-19A8DCCD1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n NeuroScholar in the backgroun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y for Arshad’s diagram as the first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constructing the schema and ‘mental hygin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49BB-707B-4D91-BAFE-C0570F21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E5A-72D2-44CE-A4E2-C3832D48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F4C-B0D9-4665-9DCE-B6447A6A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81F-DA51-41D3-9C82-0A8B4377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CDB6C-3089-4185-9B19-71A964CA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7DA0-50B0-41DC-A786-AB70DF55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76AC-E0C4-463F-B599-43DFFD0A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7B88-ED5A-4055-8A3A-5907563A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40DD-7DA5-4B8F-9F18-B31869B3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0C5F-5F65-43D3-A30B-4643122D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F388-0274-482E-A441-DB0CA30C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CD4C-C1AB-4397-BB30-5C811351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3274-DD84-47C5-A86F-D1C31C79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85EE-7457-43F7-B30B-A6368E04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3AB2-EC1D-4D9C-9B61-EF82E869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AD6BA-8284-4F8F-9E7E-575EC096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2EEB-45DB-4F78-A2B3-D69B6872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80F-5A6E-48AC-9DF2-54AE06B3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736-23E3-4C65-94A6-1E35A915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71C-E6E3-470E-9C1E-AFC774BE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C182-6F9A-44F8-8B46-4F84BF4F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4E54-CB05-4D3C-BC4A-4AC6F9B7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D9E-9A47-43C8-98A2-75A422DF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17F-6BBC-479D-A366-AB13481A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0B5B-10AC-4B1B-8344-204DFF724403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6213-F5A2-4833-8223-5C8ECB6A8C6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2514600" cy="2514600"/>
          </a:xfrm>
          <a:prstGeom prst="ellipse">
            <a:avLst/>
          </a:prstGeom>
          <a:noFill/>
          <a:ln w="1260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400040"/>
            <a:ext cx="4724280" cy="153360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400040"/>
            <a:ext cx="4724280" cy="153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1440"/>
            <a:ext cx="228600" cy="14493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762120" y="1062000"/>
            <a:ext cx="5790960" cy="20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y Engineering approaches based on semi-automated curation of the primary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4192560"/>
            <a:ext cx="73915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292929"/>
                </a:solidFill>
                <a:latin typeface="Arial"/>
              </a:rPr>
              <a:t>Gully APC Burns, Tommy Ingulfsen, Donghui Feng and Ed Hovy</a:t>
            </a:r>
            <a:endParaRPr b="0" lang="en-US" sz="27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92929"/>
                </a:solidFill>
                <a:latin typeface="Arial"/>
              </a:rPr>
              <a:t>Biomedical Knowledge Engineering Group,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92929"/>
                </a:solidFill>
                <a:latin typeface="Arial"/>
              </a:rPr>
              <a:t>Information Sciences Institute,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292929"/>
                </a:solidFill>
                <a:latin typeface="Arial"/>
              </a:rPr>
              <a:t>University of Southern California</a:t>
            </a:r>
            <a:endParaRPr b="0" lang="en-US" sz="17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6024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all, Precision and F-S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276720" y="1944720"/>
            <a:ext cx="2103480" cy="15606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1066680" y="3886200"/>
            <a:ext cx="685800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eld Labeling Results –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all label leve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9" name=""/>
          <p:cNvGraphicFramePr/>
          <p:nvPr/>
        </p:nvGraphicFramePr>
        <p:xfrm>
          <a:off x="762120" y="2647800"/>
          <a:ext cx="7619400" cy="2685960"/>
        </p:xfrm>
        <a:graphic>
          <a:graphicData uri="http://schemas.openxmlformats.org/drawingml/2006/table">
            <a:tbl>
              <a:tblPr/>
              <a:tblGrid>
                <a:gridCol w="3516120"/>
                <a:gridCol w="1399680"/>
                <a:gridCol w="1392840"/>
                <a:gridCol w="1310760"/>
              </a:tblGrid>
              <a:tr h="35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System Feature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Precision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Recall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F-Score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Baseline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392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167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234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5689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3771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453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 + Surface Word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415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6817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10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 + Surface Words + Window Words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843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039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420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Lexicon + Surface + Window  Words + Dependency features 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75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347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292929"/>
                          </a:solidFill>
                          <a:latin typeface="Times New Roman"/>
                          <a:ea typeface="Times New Roman"/>
                        </a:rPr>
                        <a:t>0.7546</a:t>
                      </a:r>
                      <a:endParaRPr b="0" lang="en-US" sz="16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4648320"/>
            <a:ext cx="11430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802680" y="5562720"/>
            <a:ext cx="432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Preliminary data from a training set of 14 documents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+ testing on 16 documents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4124160" cy="20829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504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eld Labeling Results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usion Matr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67040" y="4038480"/>
            <a:ext cx="4572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4038480"/>
            <a:ext cx="4572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87" idx="0"/>
            <a:endCxn id="388" idx="0"/>
          </p:cNvCxnSpPr>
          <p:nvPr/>
        </p:nvCxnSpPr>
        <p:spPr>
          <a:xfrm flipH="1" rot="16200000">
            <a:off x="2773440" y="3451320"/>
            <a:ext cx="2160" cy="1157400"/>
          </a:xfrm>
          <a:prstGeom prst="curvedConnector5">
            <a:avLst>
              <a:gd name="adj1" fmla="val -13800000"/>
              <a:gd name="adj2" fmla="val 50000"/>
              <a:gd name="adj3" fmla="val -13800000"/>
            </a:avLst>
          </a:prstGeom>
          <a:ln w="19080">
            <a:solidFill>
              <a:srgbClr val="ff0000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1967040" y="4543560"/>
            <a:ext cx="45720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391" name=""/>
          <p:cNvCxnSpPr>
            <a:stCxn id="387" idx="2"/>
            <a:endCxn id="390" idx="2"/>
          </p:cNvCxnSpPr>
          <p:nvPr/>
        </p:nvCxnSpPr>
        <p:spPr>
          <a:xfrm flipH="1" flipV="1" rot="10800000">
            <a:off x="1956240" y="4152600"/>
            <a:ext cx="2520" cy="505440"/>
          </a:xfrm>
          <a:prstGeom prst="curvedConnector5">
            <a:avLst>
              <a:gd name="adj1" fmla="val -13800000"/>
              <a:gd name="adj2" fmla="val 49964"/>
              <a:gd name="adj3" fmla="val -13800000"/>
            </a:avLst>
          </a:prstGeom>
          <a:ln w="19080">
            <a:solidFill>
              <a:srgbClr val="ff0000"/>
            </a:solidFill>
            <a:miter/>
          </a:ln>
        </p:spPr>
      </p:cxn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4591080" y="2070000"/>
            <a:ext cx="4113360" cy="440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7547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izing the methodology: ‘Histology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066680" y="1600200"/>
          <a:ext cx="685800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685800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4656600" y="6400800"/>
            <a:ext cx="415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from Gonzalo-Ruiz et al 1992, JCN 321: 300-311]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gical structure of a tract-tracing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cer Chemical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jection Site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beled region [1...*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psi-contra relative to injection site?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typ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dens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01720" y="2825640"/>
            <a:ext cx="3232080" cy="1227960"/>
            <a:chOff x="5301720" y="2825640"/>
            <a:chExt cx="3232080" cy="1227960"/>
          </a:xfrm>
        </p:grpSpPr>
        <p:grpSp>
          <p:nvGrpSpPr>
            <p:cNvPr id="400" name=""/>
            <p:cNvGrpSpPr/>
            <p:nvPr/>
          </p:nvGrpSpPr>
          <p:grpSpPr>
            <a:xfrm>
              <a:off x="5301720" y="3137760"/>
              <a:ext cx="1008720" cy="915840"/>
              <a:chOff x="5301720" y="3137760"/>
              <a:chExt cx="1008720" cy="915840"/>
            </a:xfrm>
          </p:grpSpPr>
          <p:sp>
            <p:nvSpPr>
              <p:cNvPr id="401" name=""/>
              <p:cNvSpPr/>
              <p:nvPr/>
            </p:nvSpPr>
            <p:spPr>
              <a:xfrm>
                <a:off x="5658120" y="3480120"/>
                <a:ext cx="652320" cy="573480"/>
              </a:xfrm>
              <a:custGeom>
                <a:avLst/>
                <a:gdLst/>
                <a:ahLst/>
                <a:rect l="l" t="t" r="r" b="b"/>
                <a:pathLst>
                  <a:path w="728" h="448">
                    <a:moveTo>
                      <a:pt x="248" y="8"/>
                    </a:moveTo>
                    <a:cubicBezTo>
                      <a:pt x="160" y="0"/>
                      <a:pt x="192" y="24"/>
                      <a:pt x="152" y="56"/>
                    </a:cubicBezTo>
                    <a:cubicBezTo>
                      <a:pt x="112" y="88"/>
                      <a:pt x="16" y="168"/>
                      <a:pt x="8" y="200"/>
                    </a:cubicBezTo>
                    <a:cubicBezTo>
                      <a:pt x="0" y="232"/>
                      <a:pt x="88" y="216"/>
                      <a:pt x="104" y="248"/>
                    </a:cubicBezTo>
                    <a:cubicBezTo>
                      <a:pt x="120" y="280"/>
                      <a:pt x="80" y="360"/>
                      <a:pt x="104" y="392"/>
                    </a:cubicBezTo>
                    <a:cubicBezTo>
                      <a:pt x="128" y="424"/>
                      <a:pt x="176" y="448"/>
                      <a:pt x="248" y="440"/>
                    </a:cubicBezTo>
                    <a:cubicBezTo>
                      <a:pt x="320" y="432"/>
                      <a:pt x="464" y="400"/>
                      <a:pt x="536" y="344"/>
                    </a:cubicBezTo>
                    <a:cubicBezTo>
                      <a:pt x="608" y="288"/>
                      <a:pt x="728" y="160"/>
                      <a:pt x="680" y="104"/>
                    </a:cubicBezTo>
                    <a:cubicBezTo>
                      <a:pt x="632" y="48"/>
                      <a:pt x="336" y="16"/>
                      <a:pt x="248" y="8"/>
                    </a:cubicBezTo>
                    <a:close/>
                  </a:path>
                </a:pathLst>
              </a:custGeom>
              <a:solidFill>
                <a:srgbClr val="cc9900">
                  <a:alpha val="50000"/>
                </a:srgbClr>
              </a:solidFill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13360" y="3901680"/>
                <a:ext cx="50400" cy="50040"/>
              </a:xfrm>
              <a:custGeom>
                <a:avLst/>
                <a:gdLst>
                  <a:gd name="textAreaLeft" fmla="*/ 11880 w 50400"/>
                  <a:gd name="textAreaRight" fmla="*/ 38520 w 50400"/>
                  <a:gd name="textAreaTop" fmla="*/ 5760 h 50040"/>
                  <a:gd name="textAreaBottom" fmla="*/ 31320 h 5004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5301720" y="3137760"/>
                <a:ext cx="513720" cy="646200"/>
                <a:chOff x="5301720" y="3137760"/>
                <a:chExt cx="513720" cy="646200"/>
              </a:xfrm>
            </p:grpSpPr>
            <p:sp>
              <p:nvSpPr>
                <p:cNvPr id="404" name=""/>
                <p:cNvSpPr/>
                <p:nvPr/>
              </p:nvSpPr>
              <p:spPr>
                <a:xfrm flipH="1" flipV="1">
                  <a:off x="5404320" y="3137760"/>
                  <a:ext cx="410760" cy="64620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 flipH="1" flipV="1">
                  <a:off x="5301720" y="3246120"/>
                  <a:ext cx="513720" cy="53784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>
                  <a:off x="5506920" y="3461040"/>
                  <a:ext cx="307800" cy="32292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28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7c042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7" name=""/>
            <p:cNvGrpSpPr/>
            <p:nvPr/>
          </p:nvGrpSpPr>
          <p:grpSpPr>
            <a:xfrm>
              <a:off x="5482440" y="2825640"/>
              <a:ext cx="3051360" cy="1194120"/>
              <a:chOff x="5482440" y="2825640"/>
              <a:chExt cx="3051360" cy="1194120"/>
            </a:xfrm>
          </p:grpSpPr>
          <p:sp>
            <p:nvSpPr>
              <p:cNvPr id="408" name=""/>
              <p:cNvSpPr/>
              <p:nvPr/>
            </p:nvSpPr>
            <p:spPr>
              <a:xfrm>
                <a:off x="7765920" y="3249000"/>
                <a:ext cx="767880" cy="770760"/>
              </a:xfrm>
              <a:custGeom>
                <a:avLst/>
                <a:gdLst/>
                <a:ahLst/>
                <a:rect l="l" t="t" r="r" b="b"/>
                <a:pathLst>
                  <a:path w="800" h="904">
                    <a:moveTo>
                      <a:pt x="168" y="128"/>
                    </a:moveTo>
                    <a:cubicBezTo>
                      <a:pt x="96" y="184"/>
                      <a:pt x="0" y="272"/>
                      <a:pt x="24" y="368"/>
                    </a:cubicBezTo>
                    <a:cubicBezTo>
                      <a:pt x="48" y="464"/>
                      <a:pt x="208" y="616"/>
                      <a:pt x="312" y="704"/>
                    </a:cubicBezTo>
                    <a:cubicBezTo>
                      <a:pt x="416" y="792"/>
                      <a:pt x="568" y="904"/>
                      <a:pt x="648" y="896"/>
                    </a:cubicBezTo>
                    <a:cubicBezTo>
                      <a:pt x="728" y="888"/>
                      <a:pt x="784" y="752"/>
                      <a:pt x="792" y="656"/>
                    </a:cubicBezTo>
                    <a:cubicBezTo>
                      <a:pt x="800" y="560"/>
                      <a:pt x="752" y="424"/>
                      <a:pt x="696" y="320"/>
                    </a:cubicBezTo>
                    <a:cubicBezTo>
                      <a:pt x="640" y="216"/>
                      <a:pt x="544" y="64"/>
                      <a:pt x="456" y="32"/>
                    </a:cubicBezTo>
                    <a:cubicBezTo>
                      <a:pt x="368" y="0"/>
                      <a:pt x="240" y="72"/>
                      <a:pt x="168" y="128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14520" y="282564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391800" y="329112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411" name=""/>
              <p:cNvGrpSpPr/>
              <p:nvPr/>
            </p:nvGrpSpPr>
            <p:grpSpPr>
              <a:xfrm>
                <a:off x="6584400" y="3361680"/>
                <a:ext cx="101520" cy="305280"/>
                <a:chOff x="6584400" y="3361680"/>
                <a:chExt cx="101520" cy="305280"/>
              </a:xfrm>
            </p:grpSpPr>
            <p:sp>
              <p:nvSpPr>
                <p:cNvPr id="412" name=""/>
                <p:cNvSpPr/>
                <p:nvPr/>
              </p:nvSpPr>
              <p:spPr>
                <a:xfrm flipH="1">
                  <a:off x="6584400" y="336204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 flipH="1" flipV="1">
                  <a:off x="6584400" y="336132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5821560" y="2896200"/>
                <a:ext cx="2606760" cy="1021320"/>
                <a:chOff x="5821560" y="2896200"/>
                <a:chExt cx="2606760" cy="1021320"/>
              </a:xfrm>
            </p:grpSpPr>
            <p:grpSp>
              <p:nvGrpSpPr>
                <p:cNvPr id="415" name=""/>
                <p:cNvGrpSpPr/>
                <p:nvPr/>
              </p:nvGrpSpPr>
              <p:grpSpPr>
                <a:xfrm>
                  <a:off x="6125760" y="3018960"/>
                  <a:ext cx="2302560" cy="816840"/>
                  <a:chOff x="6125760" y="3018960"/>
                  <a:chExt cx="2302560" cy="81684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612576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718488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728856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728280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722520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725400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731160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30584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34616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818676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821556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813204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814068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823284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819252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>
                    <a:off x="832500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>
                    <a:off x="826740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822132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080400" y="3100680"/>
                  <a:ext cx="2301480" cy="816840"/>
                  <a:chOff x="6080400" y="3100680"/>
                  <a:chExt cx="2301480" cy="81684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080400" y="360216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139160" y="315180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242480" y="315684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237080" y="310068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179480" y="31924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208280" y="320796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265520" y="31258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>
                    <a:off x="7260120" y="318744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7300440" y="321840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8140680" y="368928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8169120" y="373536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8085600" y="355608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8094600" y="358092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8186400" y="353556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8146080" y="376092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8278560" y="382212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8220960" y="376092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"/>
                  <p:cNvSpPr/>
                  <p:nvPr/>
                </p:nvSpPr>
                <p:spPr>
                  <a:xfrm>
                    <a:off x="8175240" y="364824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"/>
                <p:cNvGrpSpPr/>
                <p:nvPr/>
              </p:nvGrpSpPr>
              <p:grpSpPr>
                <a:xfrm>
                  <a:off x="6034680" y="2896200"/>
                  <a:ext cx="2301480" cy="816840"/>
                  <a:chOff x="6034680" y="2896200"/>
                  <a:chExt cx="2301480" cy="81684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6034680" y="339768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093440" y="294732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7196760" y="295236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191360" y="289620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133760" y="29880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162560" y="300348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219800" y="29214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7214400" y="298296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7254720" y="301392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>
                    <a:off x="8094960" y="348480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8123400" y="353088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8039880" y="335160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8048880" y="337644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8140680" y="333108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8" name=""/>
                  <p:cNvSpPr/>
                  <p:nvPr/>
                </p:nvSpPr>
                <p:spPr>
                  <a:xfrm>
                    <a:off x="8100360" y="355644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8232840" y="361764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" name=""/>
                  <p:cNvSpPr/>
                  <p:nvPr/>
                </p:nvSpPr>
                <p:spPr>
                  <a:xfrm>
                    <a:off x="8175240" y="355644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>
                    <a:off x="8129520" y="344376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5987880" y="3018960"/>
                  <a:ext cx="2302560" cy="816840"/>
                  <a:chOff x="5987880" y="3018960"/>
                  <a:chExt cx="2302560" cy="81684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598788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704700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15068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714492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8732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711612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717372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716796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720828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804888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807768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799416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800280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809496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805464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818712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812952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808344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1" name=""/>
                <p:cNvGrpSpPr/>
                <p:nvPr/>
              </p:nvGrpSpPr>
              <p:grpSpPr>
                <a:xfrm>
                  <a:off x="5895360" y="2936520"/>
                  <a:ext cx="2302560" cy="816840"/>
                  <a:chOff x="5895360" y="2936520"/>
                  <a:chExt cx="2302560" cy="81684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5895360" y="343800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6954480" y="298764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058160" y="299268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>
                    <a:off x="7052400" y="293652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6" name=""/>
                  <p:cNvSpPr/>
                  <p:nvPr/>
                </p:nvSpPr>
                <p:spPr>
                  <a:xfrm>
                    <a:off x="6994800" y="30283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"/>
                  <p:cNvSpPr/>
                  <p:nvPr/>
                </p:nvSpPr>
                <p:spPr>
                  <a:xfrm>
                    <a:off x="7023600" y="304380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>
                    <a:off x="7081200" y="29617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"/>
                  <p:cNvSpPr/>
                  <p:nvPr/>
                </p:nvSpPr>
                <p:spPr>
                  <a:xfrm>
                    <a:off x="7075440" y="302328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115760" y="305424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956360" y="352512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"/>
                  <p:cNvSpPr/>
                  <p:nvPr/>
                </p:nvSpPr>
                <p:spPr>
                  <a:xfrm>
                    <a:off x="7985160" y="357120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>
                    <a:off x="7901640" y="339192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>
                    <a:off x="7910280" y="341676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" name=""/>
                  <p:cNvSpPr/>
                  <p:nvPr/>
                </p:nvSpPr>
                <p:spPr>
                  <a:xfrm>
                    <a:off x="8002440" y="337140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>
                    <a:off x="7962120" y="359676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8094600" y="365796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8037000" y="359676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" name=""/>
                  <p:cNvSpPr/>
                  <p:nvPr/>
                </p:nvSpPr>
                <p:spPr>
                  <a:xfrm>
                    <a:off x="7990920" y="348408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0" name=""/>
                <p:cNvGrpSpPr/>
                <p:nvPr/>
              </p:nvGrpSpPr>
              <p:grpSpPr>
                <a:xfrm>
                  <a:off x="5821560" y="3549240"/>
                  <a:ext cx="350640" cy="326880"/>
                  <a:chOff x="5821560" y="3549240"/>
                  <a:chExt cx="350640" cy="326880"/>
                </a:xfrm>
              </p:grpSpPr>
              <p:grpSp>
                <p:nvGrpSpPr>
                  <p:cNvPr id="511" name=""/>
                  <p:cNvGrpSpPr/>
                  <p:nvPr/>
                </p:nvGrpSpPr>
                <p:grpSpPr>
                  <a:xfrm>
                    <a:off x="5821560" y="3595680"/>
                    <a:ext cx="102600" cy="106560"/>
                    <a:chOff x="5821560" y="3595680"/>
                    <a:chExt cx="102600" cy="106560"/>
                  </a:xfrm>
                </p:grpSpPr>
                <p:sp>
                  <p:nvSpPr>
                    <p:cNvPr id="512" name=""/>
                    <p:cNvSpPr/>
                    <p:nvPr/>
                  </p:nvSpPr>
                  <p:spPr>
                    <a:xfrm>
                      <a:off x="5850000" y="3630960"/>
                      <a:ext cx="45360" cy="40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>
                      <a:off x="5821560" y="3595680"/>
                      <a:ext cx="568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66">
                          <a:moveTo>
                            <a:pt x="60" y="66"/>
                          </a:moveTo>
                          <a:cubicBezTo>
                            <a:pt x="49" y="55"/>
                            <a:pt x="34" y="48"/>
                            <a:pt x="24" y="36"/>
                          </a:cubicBezTo>
                          <a:cubicBezTo>
                            <a:pt x="15" y="25"/>
                            <a:pt x="0" y="0"/>
                            <a:pt x="0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>
                      <a:off x="5884200" y="3595680"/>
                      <a:ext cx="1692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4">
                          <a:moveTo>
                            <a:pt x="0" y="54"/>
                          </a:moveTo>
                          <a:cubicBezTo>
                            <a:pt x="7" y="33"/>
                            <a:pt x="18" y="22"/>
                            <a:pt x="18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>
                      <a:off x="5838480" y="3651480"/>
                      <a:ext cx="396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60">
                          <a:moveTo>
                            <a:pt x="42" y="0"/>
                          </a:moveTo>
                          <a:cubicBezTo>
                            <a:pt x="28" y="22"/>
                            <a:pt x="0" y="32"/>
                            <a:pt x="0" y="6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>
                      <a:off x="5873040" y="3661920"/>
                      <a:ext cx="511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2">
                          <a:moveTo>
                            <a:pt x="0" y="0"/>
                          </a:moveTo>
                          <a:cubicBezTo>
                            <a:pt x="12" y="4"/>
                            <a:pt x="29" y="1"/>
                            <a:pt x="36" y="12"/>
                          </a:cubicBezTo>
                          <a:cubicBezTo>
                            <a:pt x="49" y="32"/>
                            <a:pt x="41" y="30"/>
                            <a:pt x="54" y="3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7" name=""/>
                  <p:cNvSpPr/>
                  <p:nvPr/>
                </p:nvSpPr>
                <p:spPr>
                  <a:xfrm>
                    <a:off x="5959080" y="3708000"/>
                    <a:ext cx="4536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5930640" y="367200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>
                    <a:off x="5994000" y="367200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0" name=""/>
                  <p:cNvSpPr/>
                  <p:nvPr/>
                </p:nvSpPr>
                <p:spPr>
                  <a:xfrm>
                    <a:off x="5947200" y="372816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5982480" y="373860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6004800" y="358524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5976000" y="3549240"/>
                    <a:ext cx="583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6039720" y="354924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5994000" y="360504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6" name=""/>
                  <p:cNvSpPr/>
                  <p:nvPr/>
                </p:nvSpPr>
                <p:spPr>
                  <a:xfrm>
                    <a:off x="6028200" y="361548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6096960" y="372276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6068160" y="368784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6131880" y="3687840"/>
                    <a:ext cx="165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6085440" y="3744000"/>
                    <a:ext cx="39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>
                    <a:off x="6120360" y="375372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6051600" y="3805560"/>
                    <a:ext cx="45360" cy="39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6022440" y="3769560"/>
                    <a:ext cx="5724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6085440" y="3769560"/>
                    <a:ext cx="180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6039720" y="3825720"/>
                    <a:ext cx="403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6074640" y="3836160"/>
                    <a:ext cx="5040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7" name=""/>
              <p:cNvSpPr/>
              <p:nvPr/>
            </p:nvSpPr>
            <p:spPr>
              <a:xfrm>
                <a:off x="5482440" y="288612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‘</a:t>
                </a: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nterograde’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8" name=""/>
          <p:cNvGrpSpPr/>
          <p:nvPr/>
        </p:nvGrpSpPr>
        <p:grpSpPr>
          <a:xfrm>
            <a:off x="5440680" y="4336920"/>
            <a:ext cx="3000960" cy="1454040"/>
            <a:chOff x="5440680" y="4336920"/>
            <a:chExt cx="3000960" cy="1454040"/>
          </a:xfrm>
        </p:grpSpPr>
        <p:grpSp>
          <p:nvGrpSpPr>
            <p:cNvPr id="539" name=""/>
            <p:cNvGrpSpPr/>
            <p:nvPr/>
          </p:nvGrpSpPr>
          <p:grpSpPr>
            <a:xfrm>
              <a:off x="7565040" y="4530240"/>
              <a:ext cx="876600" cy="1229040"/>
              <a:chOff x="7565040" y="4530240"/>
              <a:chExt cx="876600" cy="1229040"/>
            </a:xfrm>
          </p:grpSpPr>
          <p:sp>
            <p:nvSpPr>
              <p:cNvPr id="540" name=""/>
              <p:cNvSpPr/>
              <p:nvPr/>
            </p:nvSpPr>
            <p:spPr>
              <a:xfrm>
                <a:off x="7565040" y="5024160"/>
                <a:ext cx="731520" cy="735120"/>
              </a:xfrm>
              <a:custGeom>
                <a:avLst/>
                <a:gdLst/>
                <a:ahLst/>
                <a:rect l="l" t="t" r="r" b="b"/>
                <a:pathLst>
                  <a:path w="800" h="904">
                    <a:moveTo>
                      <a:pt x="168" y="128"/>
                    </a:moveTo>
                    <a:cubicBezTo>
                      <a:pt x="96" y="184"/>
                      <a:pt x="0" y="272"/>
                      <a:pt x="24" y="368"/>
                    </a:cubicBezTo>
                    <a:cubicBezTo>
                      <a:pt x="48" y="464"/>
                      <a:pt x="208" y="616"/>
                      <a:pt x="312" y="704"/>
                    </a:cubicBezTo>
                    <a:cubicBezTo>
                      <a:pt x="416" y="792"/>
                      <a:pt x="568" y="904"/>
                      <a:pt x="648" y="896"/>
                    </a:cubicBezTo>
                    <a:cubicBezTo>
                      <a:pt x="728" y="888"/>
                      <a:pt x="784" y="752"/>
                      <a:pt x="792" y="656"/>
                    </a:cubicBezTo>
                    <a:cubicBezTo>
                      <a:pt x="800" y="560"/>
                      <a:pt x="752" y="424"/>
                      <a:pt x="696" y="320"/>
                    </a:cubicBezTo>
                    <a:cubicBezTo>
                      <a:pt x="640" y="216"/>
                      <a:pt x="544" y="64"/>
                      <a:pt x="456" y="32"/>
                    </a:cubicBezTo>
                    <a:cubicBezTo>
                      <a:pt x="368" y="0"/>
                      <a:pt x="240" y="72"/>
                      <a:pt x="168" y="128"/>
                    </a:cubicBezTo>
                    <a:close/>
                  </a:path>
                </a:pathLst>
              </a:custGeom>
              <a:solidFill>
                <a:srgbClr val="cc9900">
                  <a:alpha val="50000"/>
                </a:srgbClr>
              </a:solidFill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7976880" y="5043600"/>
                <a:ext cx="45000" cy="781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952760" y="4530240"/>
                <a:ext cx="390960" cy="616320"/>
              </a:xfrm>
              <a:prstGeom prst="line">
                <a:avLst/>
              </a:prstGeom>
              <a:ln w="9360">
                <a:solidFill>
                  <a:srgbClr val="7c04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952760" y="4632840"/>
                <a:ext cx="488880" cy="513360"/>
              </a:xfrm>
              <a:prstGeom prst="line">
                <a:avLst/>
              </a:prstGeom>
              <a:ln w="9360">
                <a:solidFill>
                  <a:srgbClr val="7c04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952760" y="4838760"/>
                <a:ext cx="293400" cy="307440"/>
              </a:xfrm>
              <a:custGeom>
                <a:avLst/>
                <a:gdLst/>
                <a:ahLst/>
                <a:rect l="l" t="t" r="r" b="b"/>
                <a:pathLst>
                  <a:path w="288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288" y="0"/>
                    </a:lnTo>
                    <a:lnTo>
                      <a:pt x="0" y="288"/>
                    </a:lnTo>
                    <a:close/>
                  </a:path>
                </a:pathLst>
              </a:custGeom>
              <a:solidFill>
                <a:srgbClr val="cc9900"/>
              </a:solidFill>
              <a:ln w="9360">
                <a:solidFill>
                  <a:srgbClr val="7c042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"/>
            <p:cNvGrpSpPr/>
            <p:nvPr/>
          </p:nvGrpSpPr>
          <p:grpSpPr>
            <a:xfrm>
              <a:off x="5440680" y="4336920"/>
              <a:ext cx="2810880" cy="1454040"/>
              <a:chOff x="5440680" y="4336920"/>
              <a:chExt cx="2810880" cy="1454040"/>
            </a:xfrm>
          </p:grpSpPr>
          <p:sp>
            <p:nvSpPr>
              <p:cNvPr id="546" name=""/>
              <p:cNvSpPr/>
              <p:nvPr/>
            </p:nvSpPr>
            <p:spPr>
              <a:xfrm>
                <a:off x="5582880" y="5244480"/>
                <a:ext cx="621720" cy="546480"/>
              </a:xfrm>
              <a:custGeom>
                <a:avLst/>
                <a:gdLst/>
                <a:ahLst/>
                <a:rect l="l" t="t" r="r" b="b"/>
                <a:pathLst>
                  <a:path w="728" h="448">
                    <a:moveTo>
                      <a:pt x="248" y="8"/>
                    </a:moveTo>
                    <a:cubicBezTo>
                      <a:pt x="160" y="0"/>
                      <a:pt x="192" y="24"/>
                      <a:pt x="152" y="56"/>
                    </a:cubicBezTo>
                    <a:cubicBezTo>
                      <a:pt x="112" y="88"/>
                      <a:pt x="16" y="168"/>
                      <a:pt x="8" y="200"/>
                    </a:cubicBezTo>
                    <a:cubicBezTo>
                      <a:pt x="0" y="232"/>
                      <a:pt x="88" y="216"/>
                      <a:pt x="104" y="248"/>
                    </a:cubicBezTo>
                    <a:cubicBezTo>
                      <a:pt x="120" y="280"/>
                      <a:pt x="80" y="360"/>
                      <a:pt x="104" y="392"/>
                    </a:cubicBezTo>
                    <a:cubicBezTo>
                      <a:pt x="128" y="424"/>
                      <a:pt x="176" y="448"/>
                      <a:pt x="248" y="440"/>
                    </a:cubicBezTo>
                    <a:cubicBezTo>
                      <a:pt x="320" y="432"/>
                      <a:pt x="464" y="400"/>
                      <a:pt x="536" y="344"/>
                    </a:cubicBezTo>
                    <a:cubicBezTo>
                      <a:pt x="608" y="288"/>
                      <a:pt x="728" y="160"/>
                      <a:pt x="680" y="104"/>
                    </a:cubicBezTo>
                    <a:cubicBezTo>
                      <a:pt x="632" y="48"/>
                      <a:pt x="336" y="16"/>
                      <a:pt x="248" y="8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650640" y="4336920"/>
                <a:ext cx="525960" cy="48780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262560" y="5064480"/>
                <a:ext cx="525960" cy="4867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6446160" y="5131440"/>
                <a:ext cx="95760" cy="29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6446160" y="5131800"/>
                <a:ext cx="95760" cy="289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808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009480" y="5282640"/>
                <a:ext cx="2018880" cy="19548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966280" y="5360760"/>
                <a:ext cx="2016720" cy="19440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878440" y="5282640"/>
                <a:ext cx="2017800" cy="19548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90240" y="5204520"/>
                <a:ext cx="2018880" cy="19440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555" name=""/>
              <p:cNvGrpSpPr/>
              <p:nvPr/>
            </p:nvGrpSpPr>
            <p:grpSpPr>
              <a:xfrm>
                <a:off x="5720040" y="5354640"/>
                <a:ext cx="97560" cy="101160"/>
                <a:chOff x="5720040" y="5354640"/>
                <a:chExt cx="97560" cy="10116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5747040" y="5388120"/>
                  <a:ext cx="43200" cy="385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5720040" y="5354640"/>
                  <a:ext cx="54000" cy="52920"/>
                </a:xfrm>
                <a:custGeom>
                  <a:avLst/>
                  <a:gdLst/>
                  <a:ahLst/>
                  <a:rect l="l" t="t" r="r" b="b"/>
                  <a:pathLst>
                    <a:path w="60" h="66">
                      <a:moveTo>
                        <a:pt x="60" y="66"/>
                      </a:moveTo>
                      <a:cubicBezTo>
                        <a:pt x="49" y="55"/>
                        <a:pt x="34" y="48"/>
                        <a:pt x="24" y="36"/>
                      </a:cubicBezTo>
                      <a:cubicBezTo>
                        <a:pt x="15" y="25"/>
                        <a:pt x="0" y="0"/>
                        <a:pt x="0" y="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120" bIns="612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779440" y="5354640"/>
                  <a:ext cx="16200" cy="43200"/>
                </a:xfrm>
                <a:custGeom>
                  <a:avLst/>
                  <a:gdLst/>
                  <a:ahLst/>
                  <a:rect l="l" t="t" r="r" b="b"/>
                  <a:pathLst>
                    <a:path w="18" h="54">
                      <a:moveTo>
                        <a:pt x="0" y="54"/>
                      </a:moveTo>
                      <a:cubicBezTo>
                        <a:pt x="7" y="33"/>
                        <a:pt x="18" y="22"/>
                        <a:pt x="18" y="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36240" y="5407560"/>
                  <a:ext cx="37800" cy="48240"/>
                </a:xfrm>
                <a:custGeom>
                  <a:avLst/>
                  <a:gdLst/>
                  <a:ahLst/>
                  <a:rect l="l" t="t" r="r" b="b"/>
                  <a:pathLst>
                    <a:path w="42" h="60">
                      <a:moveTo>
                        <a:pt x="42" y="0"/>
                      </a:moveTo>
                      <a:cubicBezTo>
                        <a:pt x="28" y="22"/>
                        <a:pt x="0" y="32"/>
                        <a:pt x="0" y="6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440" bIns="144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5769000" y="5417280"/>
                  <a:ext cx="48600" cy="2556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0" y="0"/>
                      </a:moveTo>
                      <a:cubicBezTo>
                        <a:pt x="12" y="4"/>
                        <a:pt x="29" y="1"/>
                        <a:pt x="36" y="12"/>
                      </a:cubicBezTo>
                      <a:cubicBezTo>
                        <a:pt x="49" y="32"/>
                        <a:pt x="41" y="30"/>
                        <a:pt x="54" y="30"/>
                      </a:cubicBezTo>
                    </a:path>
                  </a:pathLst>
                </a:custGeom>
                <a:solidFill>
                  <a:srgbClr val="0000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5850720" y="5461560"/>
                <a:ext cx="42840" cy="38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24080" y="542772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84560" y="5427720"/>
                <a:ext cx="15480" cy="442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39200" y="5481360"/>
                <a:ext cx="38880" cy="4932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73400" y="5491440"/>
                <a:ext cx="49320" cy="255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93920" y="5344560"/>
                <a:ext cx="45000" cy="39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67280" y="5310360"/>
                <a:ext cx="55800" cy="5364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928120" y="5310360"/>
                <a:ext cx="15120" cy="4428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84560" y="5364000"/>
                <a:ext cx="38160" cy="4896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916600" y="5374440"/>
                <a:ext cx="49320" cy="2556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982480" y="5475960"/>
                <a:ext cx="44280" cy="38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954760" y="544212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015600" y="5442120"/>
                <a:ext cx="16560" cy="4392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971320" y="5495760"/>
                <a:ext cx="37800" cy="4932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004080" y="5505120"/>
                <a:ext cx="49320" cy="2628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939280" y="5554440"/>
                <a:ext cx="42840" cy="388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911560" y="5520600"/>
                <a:ext cx="54360" cy="53280"/>
              </a:xfrm>
              <a:custGeom>
                <a:avLst/>
                <a:gdLst/>
                <a:ahLst/>
                <a:rect l="l" t="t" r="r" b="b"/>
                <a:pathLst>
                  <a:path w="60" h="66">
                    <a:moveTo>
                      <a:pt x="60" y="66"/>
                    </a:moveTo>
                    <a:cubicBezTo>
                      <a:pt x="49" y="55"/>
                      <a:pt x="34" y="48"/>
                      <a:pt x="24" y="36"/>
                    </a:cubicBezTo>
                    <a:cubicBezTo>
                      <a:pt x="15" y="25"/>
                      <a:pt x="0" y="0"/>
                      <a:pt x="0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971320" y="5520600"/>
                <a:ext cx="17280" cy="42840"/>
              </a:xfrm>
              <a:custGeom>
                <a:avLst/>
                <a:gdLst/>
                <a:ahLst/>
                <a:rect l="l" t="t" r="r" b="b"/>
                <a:pathLst>
                  <a:path w="18" h="54">
                    <a:moveTo>
                      <a:pt x="0" y="54"/>
                    </a:moveTo>
                    <a:cubicBezTo>
                      <a:pt x="7" y="33"/>
                      <a:pt x="18" y="22"/>
                      <a:pt x="18" y="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928120" y="5573880"/>
                <a:ext cx="37800" cy="48240"/>
              </a:xfrm>
              <a:custGeom>
                <a:avLst/>
                <a:gdLst/>
                <a:ahLst/>
                <a:rect l="l" t="t" r="r" b="b"/>
                <a:pathLst>
                  <a:path w="42" h="60">
                    <a:moveTo>
                      <a:pt x="42" y="0"/>
                    </a:moveTo>
                    <a:cubicBezTo>
                      <a:pt x="28" y="22"/>
                      <a:pt x="0" y="32"/>
                      <a:pt x="0" y="6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" bIns="14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960880" y="5584320"/>
                <a:ext cx="48240" cy="2448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0"/>
                    </a:moveTo>
                    <a:cubicBezTo>
                      <a:pt x="12" y="4"/>
                      <a:pt x="29" y="1"/>
                      <a:pt x="36" y="12"/>
                    </a:cubicBezTo>
                    <a:cubicBezTo>
                      <a:pt x="49" y="32"/>
                      <a:pt x="41" y="30"/>
                      <a:pt x="54" y="30"/>
                    </a:cubicBezTo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19560" y="5262840"/>
                <a:ext cx="2017080" cy="194400"/>
              </a:xfrm>
              <a:custGeom>
                <a:avLst/>
                <a:gdLst/>
                <a:ahLst/>
                <a:rect l="l" t="t" r="r" b="b"/>
                <a:pathLst>
                  <a:path w="2208" h="240">
                    <a:moveTo>
                      <a:pt x="0" y="240"/>
                    </a:moveTo>
                    <a:cubicBezTo>
                      <a:pt x="68" y="164"/>
                      <a:pt x="136" y="88"/>
                      <a:pt x="288" y="48"/>
                    </a:cubicBezTo>
                    <a:cubicBezTo>
                      <a:pt x="440" y="8"/>
                      <a:pt x="688" y="0"/>
                      <a:pt x="912" y="0"/>
                    </a:cubicBezTo>
                    <a:cubicBezTo>
                      <a:pt x="1136" y="0"/>
                      <a:pt x="1448" y="16"/>
                      <a:pt x="1632" y="48"/>
                    </a:cubicBezTo>
                    <a:cubicBezTo>
                      <a:pt x="1816" y="80"/>
                      <a:pt x="1936" y="168"/>
                      <a:pt x="2016" y="192"/>
                    </a:cubicBezTo>
                    <a:cubicBezTo>
                      <a:pt x="2096" y="216"/>
                      <a:pt x="2080" y="200"/>
                      <a:pt x="2112" y="192"/>
                    </a:cubicBezTo>
                    <a:cubicBezTo>
                      <a:pt x="2144" y="184"/>
                      <a:pt x="2176" y="164"/>
                      <a:pt x="2208" y="14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974000" y="536580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000640" y="5410440"/>
                <a:ext cx="49320" cy="295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921440" y="5239440"/>
                <a:ext cx="41040" cy="19548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929720" y="526284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017200" y="5220000"/>
                <a:ext cx="44280" cy="781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79040" y="5434920"/>
                <a:ext cx="15912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8104680" y="549360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8049960" y="5434920"/>
                <a:ext cx="2232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8006760" y="5328000"/>
                <a:ext cx="115200" cy="5364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928640" y="5443200"/>
                <a:ext cx="576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956360" y="5488560"/>
                <a:ext cx="48960" cy="2880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877160" y="5317560"/>
                <a:ext cx="41040" cy="19440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885440" y="534024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974000" y="5297040"/>
                <a:ext cx="42840" cy="7884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934760" y="5512320"/>
                <a:ext cx="15840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60400" y="557100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005680" y="5512320"/>
                <a:ext cx="2232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962480" y="5405040"/>
                <a:ext cx="115200" cy="5328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842240" y="536580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869960" y="5410440"/>
                <a:ext cx="49320" cy="295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789680" y="5239440"/>
                <a:ext cx="41040" cy="19548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799040" y="526284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885440" y="5220000"/>
                <a:ext cx="44280" cy="781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847280" y="5434920"/>
                <a:ext cx="15948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974000" y="5493600"/>
                <a:ext cx="9864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919280" y="5434920"/>
                <a:ext cx="2160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875000" y="5328000"/>
                <a:ext cx="115200" cy="5364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754400" y="5286960"/>
                <a:ext cx="504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781400" y="5331960"/>
                <a:ext cx="49320" cy="2844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702200" y="5161320"/>
                <a:ext cx="41040" cy="19440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759800" y="5355720"/>
                <a:ext cx="15948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885440" y="5414400"/>
                <a:ext cx="9900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830720" y="5355720"/>
                <a:ext cx="22320" cy="5868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787520" y="5248800"/>
                <a:ext cx="114840" cy="5328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202600" y="5597640"/>
                <a:ext cx="48960" cy="48240"/>
              </a:xfrm>
              <a:custGeom>
                <a:avLst/>
                <a:gdLst>
                  <a:gd name="textAreaLeft" fmla="*/ 11520 w 48960"/>
                  <a:gd name="textAreaRight" fmla="*/ 37440 w 48960"/>
                  <a:gd name="textAreaTop" fmla="*/ 5400 h 48240"/>
                  <a:gd name="textAreaBottom" fmla="*/ 30240 h 4824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710480" y="518400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982280" y="5345280"/>
                <a:ext cx="5760" cy="63720"/>
              </a:xfrm>
              <a:custGeom>
                <a:avLst/>
                <a:gdLst/>
                <a:ahLst/>
                <a:rect l="l" t="t" r="r" b="b"/>
                <a:pathLst>
                  <a:path w="6" h="78">
                    <a:moveTo>
                      <a:pt x="0" y="78"/>
                    </a:moveTo>
                    <a:cubicBezTo>
                      <a:pt x="2" y="52"/>
                      <a:pt x="6" y="0"/>
                      <a:pt x="6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010000" y="5389920"/>
                <a:ext cx="49320" cy="29520"/>
              </a:xfrm>
              <a:custGeom>
                <a:avLst/>
                <a:gdLst/>
                <a:ahLst/>
                <a:rect l="l" t="t" r="r" b="b"/>
                <a:pathLst>
                  <a:path w="54" h="36">
                    <a:moveTo>
                      <a:pt x="0" y="0"/>
                    </a:moveTo>
                    <a:cubicBezTo>
                      <a:pt x="9" y="26"/>
                      <a:pt x="27" y="36"/>
                      <a:pt x="54" y="36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930800" y="5220000"/>
                <a:ext cx="41040" cy="194400"/>
              </a:xfrm>
              <a:custGeom>
                <a:avLst/>
                <a:gdLst/>
                <a:ahLst/>
                <a:rect l="l" t="t" r="r" b="b"/>
                <a:pathLst>
                  <a:path w="45" h="240">
                    <a:moveTo>
                      <a:pt x="21" y="240"/>
                    </a:moveTo>
                    <a:cubicBezTo>
                      <a:pt x="14" y="165"/>
                      <a:pt x="0" y="94"/>
                      <a:pt x="15" y="18"/>
                    </a:cubicBezTo>
                    <a:cubicBezTo>
                      <a:pt x="17" y="7"/>
                      <a:pt x="37" y="8"/>
                      <a:pt x="45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939080" y="5242320"/>
                <a:ext cx="181080" cy="59400"/>
              </a:xfrm>
              <a:custGeom>
                <a:avLst/>
                <a:gdLst/>
                <a:ahLst/>
                <a:rect l="l" t="t" r="r" b="b"/>
                <a:pathLst>
                  <a:path w="198" h="73">
                    <a:moveTo>
                      <a:pt x="0" y="43"/>
                    </a:moveTo>
                    <a:cubicBezTo>
                      <a:pt x="24" y="51"/>
                      <a:pt x="42" y="65"/>
                      <a:pt x="66" y="73"/>
                    </a:cubicBezTo>
                    <a:cubicBezTo>
                      <a:pt x="86" y="71"/>
                      <a:pt x="107" y="73"/>
                      <a:pt x="126" y="67"/>
                    </a:cubicBezTo>
                    <a:cubicBezTo>
                      <a:pt x="158" y="57"/>
                      <a:pt x="139" y="24"/>
                      <a:pt x="156" y="7"/>
                    </a:cubicBezTo>
                    <a:cubicBezTo>
                      <a:pt x="163" y="0"/>
                      <a:pt x="188" y="1"/>
                      <a:pt x="198" y="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027640" y="5199120"/>
                <a:ext cx="42840" cy="7920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cubicBezTo>
                      <a:pt x="30" y="59"/>
                      <a:pt x="41" y="79"/>
                      <a:pt x="12" y="36"/>
                    </a:cubicBezTo>
                    <a:cubicBezTo>
                      <a:pt x="5" y="25"/>
                      <a:pt x="0" y="0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988400" y="5414400"/>
                <a:ext cx="158760" cy="59400"/>
              </a:xfrm>
              <a:custGeom>
                <a:avLst/>
                <a:gdLst/>
                <a:ahLst/>
                <a:rect l="l" t="t" r="r" b="b"/>
                <a:pathLst>
                  <a:path w="174" h="74">
                    <a:moveTo>
                      <a:pt x="0" y="0"/>
                    </a:moveTo>
                    <a:cubicBezTo>
                      <a:pt x="13" y="64"/>
                      <a:pt x="40" y="58"/>
                      <a:pt x="96" y="66"/>
                    </a:cubicBezTo>
                    <a:cubicBezTo>
                      <a:pt x="146" y="61"/>
                      <a:pt x="174" y="74"/>
                      <a:pt x="174" y="2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8114040" y="5473080"/>
                <a:ext cx="99000" cy="90360"/>
              </a:xfrm>
              <a:custGeom>
                <a:avLst/>
                <a:gdLst/>
                <a:ahLst/>
                <a:rect l="l" t="t" r="r" b="b"/>
                <a:pathLst>
                  <a:path w="108" h="112">
                    <a:moveTo>
                      <a:pt x="0" y="0"/>
                    </a:moveTo>
                    <a:cubicBezTo>
                      <a:pt x="2" y="26"/>
                      <a:pt x="0" y="53"/>
                      <a:pt x="6" y="78"/>
                    </a:cubicBezTo>
                    <a:cubicBezTo>
                      <a:pt x="15" y="112"/>
                      <a:pt x="87" y="108"/>
                      <a:pt x="108" y="10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059320" y="5414400"/>
                <a:ext cx="22320" cy="58320"/>
              </a:xfrm>
              <a:custGeom>
                <a:avLst/>
                <a:gdLst/>
                <a:ahLst/>
                <a:rect l="l" t="t" r="r" b="b"/>
                <a:pathLst>
                  <a:path w="24" h="72">
                    <a:moveTo>
                      <a:pt x="0" y="72"/>
                    </a:moveTo>
                    <a:cubicBezTo>
                      <a:pt x="1" y="67"/>
                      <a:pt x="9" y="25"/>
                      <a:pt x="12" y="18"/>
                    </a:cubicBezTo>
                    <a:cubicBezTo>
                      <a:pt x="15" y="11"/>
                      <a:pt x="24" y="0"/>
                      <a:pt x="24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016120" y="5307480"/>
                <a:ext cx="114840" cy="53280"/>
              </a:xfrm>
              <a:custGeom>
                <a:avLst/>
                <a:gdLst/>
                <a:ahLst/>
                <a:rect l="l" t="t" r="r" b="b"/>
                <a:pathLst>
                  <a:path w="126" h="66">
                    <a:moveTo>
                      <a:pt x="0" y="0"/>
                    </a:moveTo>
                    <a:cubicBezTo>
                      <a:pt x="14" y="42"/>
                      <a:pt x="48" y="58"/>
                      <a:pt x="90" y="66"/>
                    </a:cubicBezTo>
                    <a:cubicBezTo>
                      <a:pt x="102" y="64"/>
                      <a:pt x="126" y="60"/>
                      <a:pt x="126" y="6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627" name=""/>
              <p:cNvGrpSpPr/>
              <p:nvPr/>
            </p:nvGrpSpPr>
            <p:grpSpPr>
              <a:xfrm>
                <a:off x="6747480" y="4433400"/>
                <a:ext cx="368280" cy="933120"/>
                <a:chOff x="6747480" y="4433400"/>
                <a:chExt cx="368280" cy="933120"/>
              </a:xfrm>
            </p:grpSpPr>
            <p:grpSp>
              <p:nvGrpSpPr>
                <p:cNvPr id="628" name=""/>
                <p:cNvGrpSpPr/>
                <p:nvPr/>
              </p:nvGrpSpPr>
              <p:grpSpPr>
                <a:xfrm>
                  <a:off x="6747840" y="4433400"/>
                  <a:ext cx="333720" cy="311760"/>
                  <a:chOff x="6747840" y="4433400"/>
                  <a:chExt cx="333720" cy="311760"/>
                </a:xfrm>
              </p:grpSpPr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6747840" y="4477680"/>
                    <a:ext cx="97560" cy="101880"/>
                    <a:chOff x="6747840" y="4477680"/>
                    <a:chExt cx="97560" cy="10188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6774840" y="4511520"/>
                      <a:ext cx="43200" cy="38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8720" bIns="-18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6747840" y="4477680"/>
                      <a:ext cx="54000" cy="5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66">
                          <a:moveTo>
                            <a:pt x="60" y="66"/>
                          </a:moveTo>
                          <a:cubicBezTo>
                            <a:pt x="49" y="55"/>
                            <a:pt x="34" y="48"/>
                            <a:pt x="24" y="36"/>
                          </a:cubicBezTo>
                          <a:cubicBezTo>
                            <a:pt x="15" y="25"/>
                            <a:pt x="0" y="0"/>
                            <a:pt x="0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6807240" y="4477680"/>
                      <a:ext cx="1620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4">
                          <a:moveTo>
                            <a:pt x="0" y="54"/>
                          </a:moveTo>
                          <a:cubicBezTo>
                            <a:pt x="7" y="33"/>
                            <a:pt x="18" y="22"/>
                            <a:pt x="18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40" bIns="-3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6764040" y="4530960"/>
                      <a:ext cx="37800" cy="4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60">
                          <a:moveTo>
                            <a:pt x="42" y="0"/>
                          </a:moveTo>
                          <a:cubicBezTo>
                            <a:pt x="28" y="22"/>
                            <a:pt x="0" y="32"/>
                            <a:pt x="0" y="6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800" bIns="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>
                      <a:off x="6796800" y="4540680"/>
                      <a:ext cx="48600" cy="2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2">
                          <a:moveTo>
                            <a:pt x="0" y="0"/>
                          </a:moveTo>
                          <a:cubicBezTo>
                            <a:pt x="12" y="4"/>
                            <a:pt x="29" y="1"/>
                            <a:pt x="36" y="12"/>
                          </a:cubicBezTo>
                          <a:cubicBezTo>
                            <a:pt x="49" y="32"/>
                            <a:pt x="41" y="30"/>
                            <a:pt x="54" y="3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1240" bIns="-212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35" name=""/>
                  <p:cNvSpPr/>
                  <p:nvPr/>
                </p:nvSpPr>
                <p:spPr>
                  <a:xfrm>
                    <a:off x="6878880" y="4584600"/>
                    <a:ext cx="43200" cy="39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6851520" y="4550400"/>
                    <a:ext cx="543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6912000" y="4550400"/>
                    <a:ext cx="162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6867720" y="4604040"/>
                    <a:ext cx="381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6901200" y="4614120"/>
                    <a:ext cx="4932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6922440" y="4467600"/>
                    <a:ext cx="44280" cy="39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6895080" y="4433400"/>
                    <a:ext cx="55440" cy="53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480" bIns="6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6955560" y="4433400"/>
                    <a:ext cx="16200" cy="44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6912000" y="4486680"/>
                    <a:ext cx="3816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>
                    <a:off x="6944760" y="4496760"/>
                    <a:ext cx="4932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7010280" y="4599000"/>
                    <a:ext cx="44280" cy="392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6982920" y="4565520"/>
                    <a:ext cx="543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7043760" y="4565520"/>
                    <a:ext cx="1584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6999120" y="4619160"/>
                    <a:ext cx="38160" cy="486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7032240" y="4628160"/>
                    <a:ext cx="4932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6966720" y="4677840"/>
                    <a:ext cx="43200" cy="381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6939360" y="4643280"/>
                    <a:ext cx="547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2" name=""/>
                  <p:cNvSpPr/>
                  <p:nvPr/>
                </p:nvSpPr>
                <p:spPr>
                  <a:xfrm>
                    <a:off x="6999120" y="4643280"/>
                    <a:ext cx="16920" cy="4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" bIns="-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6955560" y="4696920"/>
                    <a:ext cx="3816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" bIns="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6989040" y="4707360"/>
                    <a:ext cx="48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5" name=""/>
                <p:cNvSpPr/>
                <p:nvPr/>
              </p:nvSpPr>
              <p:spPr>
                <a:xfrm flipH="1">
                  <a:off x="6889320" y="4485960"/>
                  <a:ext cx="145080" cy="78264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 flipH="1">
                  <a:off x="6932160" y="4692960"/>
                  <a:ext cx="14616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>
                  <a:off x="6837840" y="4615200"/>
                  <a:ext cx="14508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>
                  <a:off x="6747120" y="4540320"/>
                  <a:ext cx="14508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 flipH="1">
                  <a:off x="6969600" y="4621320"/>
                  <a:ext cx="146160" cy="673560"/>
                </a:xfrm>
                <a:custGeom>
                  <a:avLst/>
                  <a:gdLst/>
                  <a:ahLst/>
                  <a:rect l="l" t="t" r="r" b="b"/>
                  <a:pathLst>
                    <a:path w="160" h="528">
                      <a:moveTo>
                        <a:pt x="0" y="528"/>
                      </a:moveTo>
                      <a:cubicBezTo>
                        <a:pt x="64" y="452"/>
                        <a:pt x="128" y="376"/>
                        <a:pt x="144" y="288"/>
                      </a:cubicBezTo>
                      <a:cubicBezTo>
                        <a:pt x="160" y="200"/>
                        <a:pt x="104" y="48"/>
                        <a:pt x="96" y="0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0" name=""/>
              <p:cNvSpPr/>
              <p:nvPr/>
            </p:nvSpPr>
            <p:spPr>
              <a:xfrm>
                <a:off x="5440680" y="4772880"/>
                <a:ext cx="108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‘</a:t>
                </a: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retrograde’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838080" y="3886200"/>
            <a:ext cx="3962520" cy="259092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 and eff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49320" y="1905120"/>
            <a:ext cx="78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urrent performance achieved by annotating 40 docume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Each document contains 97 sentences (in results section) on aver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nnotation rate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~ 40 Sent/hr (no support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~115 Sent/hr (after 20 documents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ime taken to annotate document to train system to perform at this standard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~65 hours with no suppor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Estimate ~2 months for a 50% RA (20 hours / week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90704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n we discover the schema from the tex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iven a large review or a grant proposal specific to a single laboratory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nnotate independent and dependent variables in paper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n we learn and extract these pattern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831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example from current set of anno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7" name=""/>
          <p:cNvGraphicFramePr/>
          <p:nvPr/>
        </p:nvGraphicFramePr>
        <p:xfrm>
          <a:off x="228600" y="1752480"/>
          <a:ext cx="6095880" cy="46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6095880" cy="46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9" name=""/>
          <p:cNvSpPr/>
          <p:nvPr/>
        </p:nvSpPr>
        <p:spPr>
          <a:xfrm>
            <a:off x="6537240" y="2043000"/>
            <a:ext cx="2454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0 independent variables: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pecie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x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onist/antagonist combinations (9)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imary antibody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eparation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brain region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1 dependent variable: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ignal density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Fund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formation Sciences Institute, seed funding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National Library of Medicine (RO1-LM07061)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NSF (LONI MAP project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HBP (USCBP)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Neuroscience consulta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lan Watts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arry Swanso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rshad Kha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Rick Thompso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Joel Hah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ori Gorto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Kim Rapp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5568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mputer Scientist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duard Hovy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onghui Feng *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Patrick Pantel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velopers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mmy Ingulfsen *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Wei-Cheng Cheng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’s all the knowled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5257800" cy="34351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2120" y="5638680"/>
            <a:ext cx="3975120" cy="4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1880"/>
                <a:tab algn="l" pos="1463760"/>
                <a:tab algn="l" pos="2195640"/>
                <a:tab algn="l" pos="2927520"/>
                <a:tab algn="l" pos="3659040"/>
                <a:tab algn="l" pos="4390920"/>
                <a:tab algn="l" pos="5122800"/>
                <a:tab algn="l" pos="5854680"/>
                <a:tab algn="l" pos="6586560"/>
                <a:tab algn="l" pos="7318440"/>
                <a:tab algn="l" pos="8050320"/>
                <a:tab algn="l" pos="8782200"/>
                <a:tab algn="l" pos="9513720"/>
                <a:tab algn="l" pos="10245600"/>
              </a:tabLst>
            </a:pPr>
            <a:r>
              <a:rPr b="0" i="1" lang="en-US" sz="1100" spc="-1" strike="noStrike">
                <a:solidFill>
                  <a:srgbClr val="292929"/>
                </a:solidFill>
                <a:latin typeface="Arial"/>
              </a:rPr>
              <a:t>Image taken from U.S. Geological Survey Energy Resource Surveys Program </a:t>
            </a:r>
            <a:endParaRPr b="0" lang="en-US" sz="11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1905120"/>
            <a:ext cx="29718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29"/>
                </a:solidFill>
                <a:latin typeface="Arial Unicode MS"/>
              </a:rPr>
              <a:t>The primary research literature..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the end-product of all scientific research 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forms the basis for human understanding of the subject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... is written in natural language 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structured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interpretabl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expensiv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… </a:t>
            </a:r>
            <a:r>
              <a:rPr b="0" lang="en-US" sz="1800" spc="-1" strike="noStrike">
                <a:solidFill>
                  <a:srgbClr val="292929"/>
                </a:solidFill>
                <a:latin typeface="Arial Unicode MS"/>
              </a:rPr>
              <a:t>is terse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6964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cision and imprecision in biological repre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3680" y="3160800"/>
            <a:ext cx="157464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ssay: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fine model system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95600" y="4557600"/>
            <a:ext cx="1990800" cy="824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Experiment: perform measurement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4" idx="3"/>
            <a:endCxn id="103" idx="3"/>
          </p:cNvCxnSpPr>
          <p:nvPr/>
        </p:nvCxnSpPr>
        <p:spPr>
          <a:xfrm flipH="1" flipV="1">
            <a:off x="5277960" y="3579480"/>
            <a:ext cx="208800" cy="1397520"/>
          </a:xfrm>
          <a:prstGeom prst="curvedConnector5">
            <a:avLst>
              <a:gd name="adj1" fmla="val -109844"/>
              <a:gd name="adj2" fmla="val 49987"/>
              <a:gd name="adj3" fmla="val -109844"/>
            </a:avLst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3" idx="2"/>
            <a:endCxn id="104" idx="0"/>
          </p:cNvCxnSpPr>
          <p:nvPr/>
        </p:nvCxnSpPr>
        <p:spPr>
          <a:xfrm flipV="1" rot="10800000">
            <a:off x="4490280" y="3998880"/>
            <a:ext cx="1080" cy="559080"/>
          </a:xfrm>
          <a:prstGeom prst="curvedConnector2">
            <a:avLst/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703680" y="2013120"/>
            <a:ext cx="157464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nceptual model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2"/>
            <a:endCxn id="103" idx="0"/>
          </p:cNvCxnSpPr>
          <p:nvPr/>
        </p:nvCxnSpPr>
        <p:spPr>
          <a:xfrm flipV="1" rot="10800000">
            <a:off x="4490280" y="2606400"/>
            <a:ext cx="1080" cy="554760"/>
          </a:xfrm>
          <a:prstGeom prst="curvedConnector2">
            <a:avLst/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3" idx="3"/>
            <a:endCxn id="107" idx="3"/>
          </p:cNvCxnSpPr>
          <p:nvPr/>
        </p:nvCxnSpPr>
        <p:spPr>
          <a:xfrm flipV="1">
            <a:off x="5277960" y="2309400"/>
            <a:ext cx="2520" cy="1270800"/>
          </a:xfrm>
          <a:prstGeom prst="curvedConnector5">
            <a:avLst>
              <a:gd name="adj1" fmla="val 14400000"/>
              <a:gd name="adj2" fmla="val 49985"/>
              <a:gd name="adj3" fmla="val 14400000"/>
            </a:avLst>
          </a:prstGeom>
          <a:ln w="1260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96080" y="1851120"/>
            <a:ext cx="249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tress’, ‘energy balance’,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homeostasis’,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glucoprivation’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04812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2-deoxyglucose (2DG) administrated intravenously to rats, look for activation in ‘stress-responsive’ neuron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7360" y="4572000"/>
            <a:ext cx="29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MAP-K and pERK activate in neurons in PVH, BST and CEAl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214776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High-level concept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873760" y="3443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dependent variable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73760" y="4844880"/>
            <a:ext cx="297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ependent variables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895480"/>
            <a:ext cx="861048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2529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Imprecise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2909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recise </a:t>
            </a:r>
            <a:endParaRPr b="0" lang="en-US" sz="16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2120" y="1843200"/>
            <a:ext cx="7432560" cy="41209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titioning the litera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2120" y="1843200"/>
            <a:ext cx="7434000" cy="41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blem with knowledge: an over-abundance of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2025720"/>
            <a:ext cx="7620120" cy="3994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57200" y="3657600"/>
            <a:ext cx="8086680" cy="2858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rpus Preparation for Natural Language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34340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380880" y="2438280"/>
            <a:ext cx="419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The Journal of Comparative Neurology is the foremost international journal for neuroanatomy. We downloaded ~12,000 PDFs in total from 1970-2005.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We preprocessed papers with consistent formatting from vol. 204 - 490 (1982-2005) providing a corpus of 9,474 PDF files. This corpus contains 99,094,318 words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2040" y="96480"/>
            <a:ext cx="798336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e Learning / Information Extraction Method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85960" y="2500200"/>
            <a:ext cx="23112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885960" y="2500200"/>
            <a:ext cx="4030560" cy="40957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885960" y="2505240"/>
            <a:ext cx="5344920" cy="4097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85960" y="2505240"/>
            <a:ext cx="5343480" cy="40924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885960" y="2500200"/>
            <a:ext cx="5344920" cy="4095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885960" y="1828800"/>
            <a:ext cx="6705360" cy="4944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885960" y="1827360"/>
            <a:ext cx="6718320" cy="4954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885960" y="1816200"/>
            <a:ext cx="6916680" cy="498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ogical structure of a tract-tracing experi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37544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Tracer Chemical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jection Site [1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sid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Labeled region [1...*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oc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rain structur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topograph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psi-contra relative to injection site?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typ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Label densit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301720" y="2825640"/>
            <a:ext cx="3232080" cy="1227960"/>
            <a:chOff x="5301720" y="2825640"/>
            <a:chExt cx="3232080" cy="1227960"/>
          </a:xfrm>
        </p:grpSpPr>
        <p:grpSp>
          <p:nvGrpSpPr>
            <p:cNvPr id="140" name=""/>
            <p:cNvGrpSpPr/>
            <p:nvPr/>
          </p:nvGrpSpPr>
          <p:grpSpPr>
            <a:xfrm>
              <a:off x="5301720" y="3137760"/>
              <a:ext cx="1008720" cy="915840"/>
              <a:chOff x="5301720" y="3137760"/>
              <a:chExt cx="1008720" cy="915840"/>
            </a:xfrm>
          </p:grpSpPr>
          <p:sp>
            <p:nvSpPr>
              <p:cNvPr id="141" name=""/>
              <p:cNvSpPr/>
              <p:nvPr/>
            </p:nvSpPr>
            <p:spPr>
              <a:xfrm>
                <a:off x="5658120" y="3480120"/>
                <a:ext cx="652320" cy="573480"/>
              </a:xfrm>
              <a:custGeom>
                <a:avLst/>
                <a:gdLst/>
                <a:ahLst/>
                <a:rect l="l" t="t" r="r" b="b"/>
                <a:pathLst>
                  <a:path w="728" h="448">
                    <a:moveTo>
                      <a:pt x="248" y="8"/>
                    </a:moveTo>
                    <a:cubicBezTo>
                      <a:pt x="160" y="0"/>
                      <a:pt x="192" y="24"/>
                      <a:pt x="152" y="56"/>
                    </a:cubicBezTo>
                    <a:cubicBezTo>
                      <a:pt x="112" y="88"/>
                      <a:pt x="16" y="168"/>
                      <a:pt x="8" y="200"/>
                    </a:cubicBezTo>
                    <a:cubicBezTo>
                      <a:pt x="0" y="232"/>
                      <a:pt x="88" y="216"/>
                      <a:pt x="104" y="248"/>
                    </a:cubicBezTo>
                    <a:cubicBezTo>
                      <a:pt x="120" y="280"/>
                      <a:pt x="80" y="360"/>
                      <a:pt x="104" y="392"/>
                    </a:cubicBezTo>
                    <a:cubicBezTo>
                      <a:pt x="128" y="424"/>
                      <a:pt x="176" y="448"/>
                      <a:pt x="248" y="440"/>
                    </a:cubicBezTo>
                    <a:cubicBezTo>
                      <a:pt x="320" y="432"/>
                      <a:pt x="464" y="400"/>
                      <a:pt x="536" y="344"/>
                    </a:cubicBezTo>
                    <a:cubicBezTo>
                      <a:pt x="608" y="288"/>
                      <a:pt x="728" y="160"/>
                      <a:pt x="680" y="104"/>
                    </a:cubicBezTo>
                    <a:cubicBezTo>
                      <a:pt x="632" y="48"/>
                      <a:pt x="336" y="16"/>
                      <a:pt x="248" y="8"/>
                    </a:cubicBezTo>
                    <a:close/>
                  </a:path>
                </a:pathLst>
              </a:custGeom>
              <a:solidFill>
                <a:srgbClr val="cc9900">
                  <a:alpha val="50000"/>
                </a:srgbClr>
              </a:solidFill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13360" y="3901680"/>
                <a:ext cx="50400" cy="50040"/>
              </a:xfrm>
              <a:custGeom>
                <a:avLst/>
                <a:gdLst>
                  <a:gd name="textAreaLeft" fmla="*/ 11880 w 50400"/>
                  <a:gd name="textAreaRight" fmla="*/ 38520 w 50400"/>
                  <a:gd name="textAreaTop" fmla="*/ 5760 h 50040"/>
                  <a:gd name="textAreaBottom" fmla="*/ 31320 h 5004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5301720" y="3137760"/>
                <a:ext cx="513720" cy="646200"/>
                <a:chOff x="5301720" y="3137760"/>
                <a:chExt cx="513720" cy="646200"/>
              </a:xfrm>
            </p:grpSpPr>
            <p:sp>
              <p:nvSpPr>
                <p:cNvPr id="144" name=""/>
                <p:cNvSpPr/>
                <p:nvPr/>
              </p:nvSpPr>
              <p:spPr>
                <a:xfrm flipH="1" flipV="1">
                  <a:off x="5404320" y="3137760"/>
                  <a:ext cx="410760" cy="64620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5301720" y="3246120"/>
                  <a:ext cx="513720" cy="537840"/>
                </a:xfrm>
                <a:prstGeom prst="line">
                  <a:avLst/>
                </a:prstGeom>
                <a:ln w="9360">
                  <a:solidFill>
                    <a:srgbClr val="7c04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5506920" y="3461040"/>
                  <a:ext cx="307800" cy="322920"/>
                </a:xfrm>
                <a:custGeom>
                  <a:avLst/>
                  <a:gdLst/>
                  <a:ahLst/>
                  <a:rect l="l" t="t" r="r" b="b"/>
                  <a:pathLst>
                    <a:path w="288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288" y="0"/>
                      </a:lnTo>
                      <a:lnTo>
                        <a:pt x="0" y="288"/>
                      </a:lnTo>
                      <a:close/>
                    </a:path>
                  </a:pathLst>
                </a:custGeom>
                <a:solidFill>
                  <a:srgbClr val="cc9900"/>
                </a:solidFill>
                <a:ln w="9360">
                  <a:solidFill>
                    <a:srgbClr val="7c042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"/>
            <p:cNvGrpSpPr/>
            <p:nvPr/>
          </p:nvGrpSpPr>
          <p:grpSpPr>
            <a:xfrm>
              <a:off x="5482440" y="2825640"/>
              <a:ext cx="3051360" cy="1194120"/>
              <a:chOff x="5482440" y="2825640"/>
              <a:chExt cx="3051360" cy="1194120"/>
            </a:xfrm>
          </p:grpSpPr>
          <p:sp>
            <p:nvSpPr>
              <p:cNvPr id="148" name=""/>
              <p:cNvSpPr/>
              <p:nvPr/>
            </p:nvSpPr>
            <p:spPr>
              <a:xfrm>
                <a:off x="7765920" y="3249000"/>
                <a:ext cx="767880" cy="770760"/>
              </a:xfrm>
              <a:custGeom>
                <a:avLst/>
                <a:gdLst/>
                <a:ahLst/>
                <a:rect l="l" t="t" r="r" b="b"/>
                <a:pathLst>
                  <a:path w="800" h="904">
                    <a:moveTo>
                      <a:pt x="168" y="128"/>
                    </a:moveTo>
                    <a:cubicBezTo>
                      <a:pt x="96" y="184"/>
                      <a:pt x="0" y="272"/>
                      <a:pt x="24" y="368"/>
                    </a:cubicBezTo>
                    <a:cubicBezTo>
                      <a:pt x="48" y="464"/>
                      <a:pt x="208" y="616"/>
                      <a:pt x="312" y="704"/>
                    </a:cubicBezTo>
                    <a:cubicBezTo>
                      <a:pt x="416" y="792"/>
                      <a:pt x="568" y="904"/>
                      <a:pt x="648" y="896"/>
                    </a:cubicBezTo>
                    <a:cubicBezTo>
                      <a:pt x="728" y="888"/>
                      <a:pt x="784" y="752"/>
                      <a:pt x="792" y="656"/>
                    </a:cubicBezTo>
                    <a:cubicBezTo>
                      <a:pt x="800" y="560"/>
                      <a:pt x="752" y="424"/>
                      <a:pt x="696" y="320"/>
                    </a:cubicBezTo>
                    <a:cubicBezTo>
                      <a:pt x="640" y="216"/>
                      <a:pt x="544" y="64"/>
                      <a:pt x="456" y="32"/>
                    </a:cubicBezTo>
                    <a:cubicBezTo>
                      <a:pt x="368" y="0"/>
                      <a:pt x="240" y="72"/>
                      <a:pt x="168" y="128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14520" y="282564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391800" y="3291120"/>
                <a:ext cx="551520" cy="511920"/>
              </a:xfrm>
              <a:custGeom>
                <a:avLst/>
                <a:gdLst/>
                <a:ahLst/>
                <a:rect l="l" t="t" r="r" b="b"/>
                <a:pathLst>
                  <a:path w="576" h="600">
                    <a:moveTo>
                      <a:pt x="96" y="152"/>
                    </a:moveTo>
                    <a:cubicBezTo>
                      <a:pt x="56" y="200"/>
                      <a:pt x="0" y="256"/>
                      <a:pt x="0" y="296"/>
                    </a:cubicBezTo>
                    <a:cubicBezTo>
                      <a:pt x="0" y="336"/>
                      <a:pt x="56" y="344"/>
                      <a:pt x="96" y="392"/>
                    </a:cubicBezTo>
                    <a:cubicBezTo>
                      <a:pt x="136" y="440"/>
                      <a:pt x="168" y="568"/>
                      <a:pt x="240" y="584"/>
                    </a:cubicBezTo>
                    <a:cubicBezTo>
                      <a:pt x="312" y="600"/>
                      <a:pt x="480" y="552"/>
                      <a:pt x="528" y="488"/>
                    </a:cubicBezTo>
                    <a:cubicBezTo>
                      <a:pt x="576" y="424"/>
                      <a:pt x="576" y="280"/>
                      <a:pt x="528" y="200"/>
                    </a:cubicBezTo>
                    <a:cubicBezTo>
                      <a:pt x="480" y="120"/>
                      <a:pt x="312" y="16"/>
                      <a:pt x="240" y="8"/>
                    </a:cubicBezTo>
                    <a:cubicBezTo>
                      <a:pt x="168" y="0"/>
                      <a:pt x="136" y="104"/>
                      <a:pt x="96" y="152"/>
                    </a:cubicBezTo>
                    <a:close/>
                  </a:path>
                </a:pathLst>
              </a:custGeom>
              <a:noFill/>
              <a:ln w="12600">
                <a:solidFill>
                  <a:srgbClr val="80808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6584400" y="3361680"/>
                <a:ext cx="101520" cy="305280"/>
                <a:chOff x="6584400" y="3361680"/>
                <a:chExt cx="101520" cy="305280"/>
              </a:xfrm>
            </p:grpSpPr>
            <p:sp>
              <p:nvSpPr>
                <p:cNvPr id="152" name=""/>
                <p:cNvSpPr/>
                <p:nvPr/>
              </p:nvSpPr>
              <p:spPr>
                <a:xfrm flipH="1">
                  <a:off x="6584400" y="336204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H="1" flipV="1">
                  <a:off x="6584400" y="3361320"/>
                  <a:ext cx="101520" cy="304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400000"/>
                    </a:path>
                  </a:pathLst>
                </a:custGeom>
                <a:noFill/>
                <a:ln w="9360">
                  <a:solidFill>
                    <a:srgbClr val="80808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5821560" y="2896200"/>
                <a:ext cx="2606760" cy="1021320"/>
                <a:chOff x="5821560" y="2896200"/>
                <a:chExt cx="2606760" cy="10213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6125760" y="3018960"/>
                  <a:ext cx="2302560" cy="816840"/>
                  <a:chOff x="6125760" y="3018960"/>
                  <a:chExt cx="2302560" cy="816840"/>
                </a:xfrm>
              </p:grpSpPr>
              <p:sp>
                <p:nvSpPr>
                  <p:cNvPr id="156" name=""/>
                  <p:cNvSpPr/>
                  <p:nvPr/>
                </p:nvSpPr>
                <p:spPr>
                  <a:xfrm>
                    <a:off x="612576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718488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728856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728280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722520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725400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731160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730584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734616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818676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821556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813204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814068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823284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819252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832500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826740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" name=""/>
                  <p:cNvSpPr/>
                  <p:nvPr/>
                </p:nvSpPr>
                <p:spPr>
                  <a:xfrm>
                    <a:off x="822132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" name=""/>
                <p:cNvGrpSpPr/>
                <p:nvPr/>
              </p:nvGrpSpPr>
              <p:grpSpPr>
                <a:xfrm>
                  <a:off x="6080400" y="3100680"/>
                  <a:ext cx="2301480" cy="816840"/>
                  <a:chOff x="6080400" y="3100680"/>
                  <a:chExt cx="2301480" cy="816840"/>
                </a:xfrm>
              </p:grpSpPr>
              <p:sp>
                <p:nvSpPr>
                  <p:cNvPr id="175" name=""/>
                  <p:cNvSpPr/>
                  <p:nvPr/>
                </p:nvSpPr>
                <p:spPr>
                  <a:xfrm>
                    <a:off x="6080400" y="360216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7139160" y="315180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7242480" y="315684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7237080" y="310068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7179480" y="31924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7208280" y="320796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7265520" y="312588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7260120" y="318744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7300440" y="321840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8140680" y="368928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" name=""/>
                  <p:cNvSpPr/>
                  <p:nvPr/>
                </p:nvSpPr>
                <p:spPr>
                  <a:xfrm>
                    <a:off x="8169120" y="373536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8085600" y="355608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8094600" y="358092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8186400" y="353556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8146080" y="376092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8278560" y="382212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8220960" y="376092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8175240" y="364824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6034680" y="2896200"/>
                  <a:ext cx="2301480" cy="816840"/>
                  <a:chOff x="6034680" y="2896200"/>
                  <a:chExt cx="2301480" cy="8168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6034680" y="3397680"/>
                    <a:ext cx="211752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7093440" y="294732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196760" y="295236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191360" y="289620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133760" y="29880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162560" y="300348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219800" y="292140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7214400" y="298296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254720" y="301392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8094960" y="348480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8123400" y="353088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8039880" y="335160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8048880" y="337644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8140680" y="333108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8100360" y="355644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8232840" y="361764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8175240" y="355644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8129520" y="344376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2" name=""/>
                <p:cNvGrpSpPr/>
                <p:nvPr/>
              </p:nvGrpSpPr>
              <p:grpSpPr>
                <a:xfrm>
                  <a:off x="5987880" y="3018960"/>
                  <a:ext cx="2302560" cy="816840"/>
                  <a:chOff x="5987880" y="3018960"/>
                  <a:chExt cx="2302560" cy="81684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5987880" y="352044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047000" y="307008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7150680" y="307512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7144920" y="301896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7087320" y="31107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7116120" y="312624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7173720" y="304416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7167960" y="310572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7208280" y="313668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8048880" y="360756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077680" y="365364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7994160" y="347436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8002800" y="349920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8094960" y="345384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054640" y="367920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8187120" y="374040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8129520" y="367920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8083440" y="356652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5895360" y="2936520"/>
                  <a:ext cx="2302560" cy="816840"/>
                  <a:chOff x="5895360" y="2936520"/>
                  <a:chExt cx="2302560" cy="81684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5895360" y="3438000"/>
                    <a:ext cx="21186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2208" h="240">
                        <a:moveTo>
                          <a:pt x="0" y="240"/>
                        </a:moveTo>
                        <a:cubicBezTo>
                          <a:pt x="68" y="164"/>
                          <a:pt x="136" y="88"/>
                          <a:pt x="288" y="48"/>
                        </a:cubicBezTo>
                        <a:cubicBezTo>
                          <a:pt x="440" y="8"/>
                          <a:pt x="688" y="0"/>
                          <a:pt x="912" y="0"/>
                        </a:cubicBezTo>
                        <a:cubicBezTo>
                          <a:pt x="1136" y="0"/>
                          <a:pt x="1448" y="16"/>
                          <a:pt x="1632" y="48"/>
                        </a:cubicBezTo>
                        <a:cubicBezTo>
                          <a:pt x="1816" y="80"/>
                          <a:pt x="1936" y="168"/>
                          <a:pt x="2016" y="192"/>
                        </a:cubicBezTo>
                        <a:cubicBezTo>
                          <a:pt x="2096" y="216"/>
                          <a:pt x="2080" y="200"/>
                          <a:pt x="2112" y="192"/>
                        </a:cubicBezTo>
                        <a:cubicBezTo>
                          <a:pt x="2144" y="184"/>
                          <a:pt x="2176" y="164"/>
                          <a:pt x="2208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6954480" y="2987640"/>
                    <a:ext cx="153360" cy="45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528">
                        <a:moveTo>
                          <a:pt x="0" y="528"/>
                        </a:moveTo>
                        <a:cubicBezTo>
                          <a:pt x="64" y="452"/>
                          <a:pt x="128" y="376"/>
                          <a:pt x="144" y="288"/>
                        </a:cubicBezTo>
                        <a:cubicBezTo>
                          <a:pt x="160" y="200"/>
                          <a:pt x="104" y="48"/>
                          <a:pt x="9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058160" y="299268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36">
                        <a:moveTo>
                          <a:pt x="0" y="36"/>
                        </a:moveTo>
                        <a:cubicBezTo>
                          <a:pt x="22" y="29"/>
                          <a:pt x="24" y="23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52400" y="2936520"/>
                    <a:ext cx="3456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78">
                        <a:moveTo>
                          <a:pt x="36" y="78"/>
                        </a:moveTo>
                        <a:cubicBezTo>
                          <a:pt x="32" y="66"/>
                          <a:pt x="28" y="54"/>
                          <a:pt x="24" y="42"/>
                        </a:cubicBezTo>
                        <a:cubicBezTo>
                          <a:pt x="19" y="28"/>
                          <a:pt x="0" y="20"/>
                          <a:pt x="0" y="6"/>
                        </a:cubicBezTo>
                        <a:cubicBezTo>
                          <a:pt x="0" y="4"/>
                          <a:pt x="0" y="2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994800" y="30283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60" y="0"/>
                        </a:moveTo>
                        <a:cubicBezTo>
                          <a:pt x="40" y="7"/>
                          <a:pt x="26" y="17"/>
                          <a:pt x="6" y="24"/>
                        </a:cubicBezTo>
                        <a:cubicBezTo>
                          <a:pt x="4" y="16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023600" y="3043800"/>
                    <a:ext cx="42840" cy="4176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9">
                        <a:moveTo>
                          <a:pt x="6" y="0"/>
                        </a:moveTo>
                        <a:cubicBezTo>
                          <a:pt x="14" y="8"/>
                          <a:pt x="23" y="15"/>
                          <a:pt x="30" y="24"/>
                        </a:cubicBezTo>
                        <a:cubicBezTo>
                          <a:pt x="35" y="29"/>
                          <a:pt x="45" y="36"/>
                          <a:pt x="42" y="42"/>
                        </a:cubicBezTo>
                        <a:cubicBezTo>
                          <a:pt x="38" y="49"/>
                          <a:pt x="7" y="48"/>
                          <a:pt x="0" y="4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040" bIns="-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081200" y="2961720"/>
                    <a:ext cx="576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24">
                        <a:moveTo>
                          <a:pt x="0" y="24"/>
                        </a:moveTo>
                        <a:cubicBezTo>
                          <a:pt x="8" y="22"/>
                          <a:pt x="33" y="16"/>
                          <a:pt x="42" y="12"/>
                        </a:cubicBezTo>
                        <a:cubicBezTo>
                          <a:pt x="48" y="9"/>
                          <a:pt x="60" y="0"/>
                          <a:pt x="6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075440" y="3023280"/>
                    <a:ext cx="53640" cy="4068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48">
                        <a:moveTo>
                          <a:pt x="0" y="48"/>
                        </a:moveTo>
                        <a:cubicBezTo>
                          <a:pt x="12" y="46"/>
                          <a:pt x="24" y="45"/>
                          <a:pt x="36" y="42"/>
                        </a:cubicBezTo>
                        <a:cubicBezTo>
                          <a:pt x="42" y="41"/>
                          <a:pt x="53" y="42"/>
                          <a:pt x="54" y="36"/>
                        </a:cubicBezTo>
                        <a:cubicBezTo>
                          <a:pt x="56" y="27"/>
                          <a:pt x="43" y="21"/>
                          <a:pt x="42" y="12"/>
                        </a:cubicBezTo>
                        <a:cubicBezTo>
                          <a:pt x="41" y="8"/>
                          <a:pt x="46" y="4"/>
                          <a:pt x="48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120" bIns="-61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7115760" y="3054240"/>
                    <a:ext cx="4608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36">
                        <a:moveTo>
                          <a:pt x="0" y="0"/>
                        </a:moveTo>
                        <a:cubicBezTo>
                          <a:pt x="33" y="7"/>
                          <a:pt x="34" y="8"/>
                          <a:pt x="48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560" bIns="-165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7956360" y="3525120"/>
                    <a:ext cx="5400" cy="6624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78">
                        <a:moveTo>
                          <a:pt x="0" y="78"/>
                        </a:moveTo>
                        <a:cubicBezTo>
                          <a:pt x="2" y="52"/>
                          <a:pt x="6" y="0"/>
                          <a:pt x="6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7985160" y="3571200"/>
                    <a:ext cx="5148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6">
                        <a:moveTo>
                          <a:pt x="0" y="0"/>
                        </a:moveTo>
                        <a:cubicBezTo>
                          <a:pt x="9" y="26"/>
                          <a:pt x="27" y="36"/>
                          <a:pt x="54" y="36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6200" bIns="-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7901640" y="3391920"/>
                    <a:ext cx="43200" cy="204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240">
                        <a:moveTo>
                          <a:pt x="21" y="240"/>
                        </a:moveTo>
                        <a:cubicBezTo>
                          <a:pt x="14" y="165"/>
                          <a:pt x="0" y="94"/>
                          <a:pt x="15" y="18"/>
                        </a:cubicBezTo>
                        <a:cubicBezTo>
                          <a:pt x="17" y="7"/>
                          <a:pt x="37" y="8"/>
                          <a:pt x="45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910280" y="3416760"/>
                    <a:ext cx="18972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98" h="73">
                        <a:moveTo>
                          <a:pt x="0" y="43"/>
                        </a:moveTo>
                        <a:cubicBezTo>
                          <a:pt x="24" y="51"/>
                          <a:pt x="42" y="65"/>
                          <a:pt x="66" y="73"/>
                        </a:cubicBezTo>
                        <a:cubicBezTo>
                          <a:pt x="86" y="71"/>
                          <a:pt x="107" y="73"/>
                          <a:pt x="126" y="67"/>
                        </a:cubicBezTo>
                        <a:cubicBezTo>
                          <a:pt x="158" y="57"/>
                          <a:pt x="139" y="24"/>
                          <a:pt x="156" y="7"/>
                        </a:cubicBezTo>
                        <a:cubicBezTo>
                          <a:pt x="163" y="0"/>
                          <a:pt x="188" y="1"/>
                          <a:pt x="198" y="1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8002440" y="3371400"/>
                    <a:ext cx="46080" cy="8172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96">
                        <a:moveTo>
                          <a:pt x="48" y="96"/>
                        </a:moveTo>
                        <a:cubicBezTo>
                          <a:pt x="30" y="59"/>
                          <a:pt x="41" y="79"/>
                          <a:pt x="12" y="36"/>
                        </a:cubicBezTo>
                        <a:cubicBezTo>
                          <a:pt x="5" y="25"/>
                          <a:pt x="0" y="0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4920" bIns="349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7962120" y="3596760"/>
                    <a:ext cx="16704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4">
                        <a:moveTo>
                          <a:pt x="0" y="0"/>
                        </a:moveTo>
                        <a:cubicBezTo>
                          <a:pt x="13" y="64"/>
                          <a:pt x="40" y="58"/>
                          <a:pt x="96" y="66"/>
                        </a:cubicBezTo>
                        <a:cubicBezTo>
                          <a:pt x="146" y="61"/>
                          <a:pt x="174" y="74"/>
                          <a:pt x="174" y="2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6200" bIns="162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8094600" y="3657960"/>
                    <a:ext cx="1033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12">
                        <a:moveTo>
                          <a:pt x="0" y="0"/>
                        </a:moveTo>
                        <a:cubicBezTo>
                          <a:pt x="2" y="26"/>
                          <a:pt x="0" y="53"/>
                          <a:pt x="6" y="78"/>
                        </a:cubicBezTo>
                        <a:cubicBezTo>
                          <a:pt x="15" y="112"/>
                          <a:pt x="87" y="108"/>
                          <a:pt x="108" y="10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8037000" y="3596760"/>
                    <a:ext cx="230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72">
                        <a:moveTo>
                          <a:pt x="0" y="72"/>
                        </a:moveTo>
                        <a:cubicBezTo>
                          <a:pt x="1" y="67"/>
                          <a:pt x="9" y="25"/>
                          <a:pt x="12" y="18"/>
                        </a:cubicBezTo>
                        <a:cubicBezTo>
                          <a:pt x="15" y="11"/>
                          <a:pt x="24" y="0"/>
                          <a:pt x="24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7990920" y="3484080"/>
                    <a:ext cx="120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6">
                        <a:moveTo>
                          <a:pt x="0" y="0"/>
                        </a:moveTo>
                        <a:cubicBezTo>
                          <a:pt x="14" y="42"/>
                          <a:pt x="48" y="58"/>
                          <a:pt x="90" y="66"/>
                        </a:cubicBezTo>
                        <a:cubicBezTo>
                          <a:pt x="102" y="64"/>
                          <a:pt x="126" y="60"/>
                          <a:pt x="126" y="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0" name=""/>
                <p:cNvGrpSpPr/>
                <p:nvPr/>
              </p:nvGrpSpPr>
              <p:grpSpPr>
                <a:xfrm>
                  <a:off x="5821560" y="3549240"/>
                  <a:ext cx="350640" cy="326880"/>
                  <a:chOff x="5821560" y="3549240"/>
                  <a:chExt cx="350640" cy="326880"/>
                </a:xfrm>
              </p:grpSpPr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821560" y="3595680"/>
                    <a:ext cx="102600" cy="106560"/>
                    <a:chOff x="5821560" y="3595680"/>
                    <a:chExt cx="102600" cy="1065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0000" y="3630960"/>
                      <a:ext cx="45360" cy="406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7640" bIns="-17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821560" y="3595680"/>
                      <a:ext cx="56880" cy="5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66">
                          <a:moveTo>
                            <a:pt x="60" y="66"/>
                          </a:moveTo>
                          <a:cubicBezTo>
                            <a:pt x="49" y="55"/>
                            <a:pt x="34" y="48"/>
                            <a:pt x="24" y="36"/>
                          </a:cubicBezTo>
                          <a:cubicBezTo>
                            <a:pt x="15" y="25"/>
                            <a:pt x="0" y="0"/>
                            <a:pt x="0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9000" bIns="9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5884200" y="3595680"/>
                      <a:ext cx="16920" cy="4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" h="54">
                          <a:moveTo>
                            <a:pt x="0" y="54"/>
                          </a:moveTo>
                          <a:cubicBezTo>
                            <a:pt x="7" y="33"/>
                            <a:pt x="18" y="22"/>
                            <a:pt x="18" y="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080" bIns="-1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5838480" y="3651480"/>
                      <a:ext cx="396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60">
                          <a:moveTo>
                            <a:pt x="42" y="0"/>
                          </a:moveTo>
                          <a:cubicBezTo>
                            <a:pt x="28" y="22"/>
                            <a:pt x="0" y="32"/>
                            <a:pt x="0" y="6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960" bIns="3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873040" y="3661920"/>
                      <a:ext cx="5112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" h="32">
                          <a:moveTo>
                            <a:pt x="0" y="0"/>
                          </a:moveTo>
                          <a:cubicBezTo>
                            <a:pt x="12" y="4"/>
                            <a:pt x="29" y="1"/>
                            <a:pt x="36" y="12"/>
                          </a:cubicBezTo>
                          <a:cubicBezTo>
                            <a:pt x="49" y="32"/>
                            <a:pt x="41" y="30"/>
                            <a:pt x="54" y="30"/>
                          </a:cubicBezTo>
                        </a:path>
                      </a:pathLst>
                    </a:custGeom>
                    <a:solidFill>
                      <a:srgbClr val="000000"/>
                    </a:soli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29292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7" name=""/>
                  <p:cNvSpPr/>
                  <p:nvPr/>
                </p:nvSpPr>
                <p:spPr>
                  <a:xfrm>
                    <a:off x="5959080" y="3708000"/>
                    <a:ext cx="4536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5930640" y="367200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994000" y="367200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947200" y="372816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982480" y="373860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6004800" y="358524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976000" y="3549240"/>
                    <a:ext cx="58320" cy="55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6039720" y="3549240"/>
                    <a:ext cx="1692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" bIns="-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994000" y="3605040"/>
                    <a:ext cx="40320" cy="5184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028200" y="361548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096960" y="3722760"/>
                    <a:ext cx="46440" cy="41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7280" bIns="-1728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068160" y="3687840"/>
                    <a:ext cx="5688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131880" y="3687840"/>
                    <a:ext cx="1656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085440" y="3744000"/>
                    <a:ext cx="399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60" bIns="39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6120360" y="3753720"/>
                    <a:ext cx="5184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6051600" y="3805560"/>
                    <a:ext cx="45360" cy="39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360" bIns="-18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6022440" y="3769560"/>
                    <a:ext cx="5724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" h="66">
                        <a:moveTo>
                          <a:pt x="60" y="66"/>
                        </a:moveTo>
                        <a:cubicBezTo>
                          <a:pt x="49" y="55"/>
                          <a:pt x="34" y="48"/>
                          <a:pt x="24" y="36"/>
                        </a:cubicBezTo>
                        <a:cubicBezTo>
                          <a:pt x="15" y="25"/>
                          <a:pt x="0" y="0"/>
                          <a:pt x="0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360" bIns="936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6085440" y="3769560"/>
                    <a:ext cx="180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54">
                        <a:moveTo>
                          <a:pt x="0" y="54"/>
                        </a:moveTo>
                        <a:cubicBezTo>
                          <a:pt x="7" y="33"/>
                          <a:pt x="18" y="22"/>
                          <a:pt x="18" y="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6039720" y="3825720"/>
                    <a:ext cx="403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60">
                        <a:moveTo>
                          <a:pt x="42" y="0"/>
                        </a:moveTo>
                        <a:cubicBezTo>
                          <a:pt x="28" y="22"/>
                          <a:pt x="0" y="32"/>
                          <a:pt x="0" y="6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6074640" y="3836160"/>
                    <a:ext cx="50400" cy="26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2">
                        <a:moveTo>
                          <a:pt x="0" y="0"/>
                        </a:moveTo>
                        <a:cubicBezTo>
                          <a:pt x="12" y="4"/>
                          <a:pt x="29" y="1"/>
                          <a:pt x="36" y="12"/>
                        </a:cubicBezTo>
                        <a:cubicBezTo>
                          <a:pt x="49" y="32"/>
                          <a:pt x="41" y="30"/>
                          <a:pt x="54" y="30"/>
                        </a:cubicBezTo>
                      </a:path>
                    </a:pathLst>
                  </a:cu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292929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7" name=""/>
              <p:cNvSpPr/>
              <p:nvPr/>
            </p:nvSpPr>
            <p:spPr>
              <a:xfrm>
                <a:off x="5482440" y="288612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‘</a:t>
                </a:r>
                <a:r>
                  <a:rPr b="0" lang="en-US" sz="1400" spc="-1" strike="noStrike">
                    <a:solidFill>
                      <a:srgbClr val="292929"/>
                    </a:solidFill>
                    <a:latin typeface="Arial"/>
                  </a:rPr>
                  <a:t>anterograde’</a:t>
                </a:r>
                <a:endParaRPr b="0" lang="en-US" sz="1400" spc="-1" strike="noStrike">
                  <a:solidFill>
                    <a:srgbClr val="29292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"/>
          <p:cNvGrpSpPr/>
          <p:nvPr/>
        </p:nvGrpSpPr>
        <p:grpSpPr>
          <a:xfrm>
            <a:off x="7564320" y="4530600"/>
            <a:ext cx="878040" cy="1228320"/>
            <a:chOff x="7564320" y="4530600"/>
            <a:chExt cx="878040" cy="1228320"/>
          </a:xfrm>
        </p:grpSpPr>
        <p:sp>
          <p:nvSpPr>
            <p:cNvPr id="279" name=""/>
            <p:cNvSpPr/>
            <p:nvPr/>
          </p:nvSpPr>
          <p:spPr>
            <a:xfrm>
              <a:off x="7564320" y="5024160"/>
              <a:ext cx="732600" cy="734760"/>
            </a:xfrm>
            <a:custGeom>
              <a:avLst/>
              <a:gdLst/>
              <a:ahLst/>
              <a:rect l="l" t="t" r="r" b="b"/>
              <a:pathLst>
                <a:path w="800" h="904">
                  <a:moveTo>
                    <a:pt x="168" y="128"/>
                  </a:moveTo>
                  <a:cubicBezTo>
                    <a:pt x="96" y="184"/>
                    <a:pt x="0" y="272"/>
                    <a:pt x="24" y="368"/>
                  </a:cubicBezTo>
                  <a:cubicBezTo>
                    <a:pt x="48" y="464"/>
                    <a:pt x="208" y="616"/>
                    <a:pt x="312" y="704"/>
                  </a:cubicBezTo>
                  <a:cubicBezTo>
                    <a:pt x="416" y="792"/>
                    <a:pt x="568" y="904"/>
                    <a:pt x="648" y="896"/>
                  </a:cubicBezTo>
                  <a:cubicBezTo>
                    <a:pt x="728" y="888"/>
                    <a:pt x="784" y="752"/>
                    <a:pt x="792" y="656"/>
                  </a:cubicBezTo>
                  <a:cubicBezTo>
                    <a:pt x="800" y="560"/>
                    <a:pt x="752" y="424"/>
                    <a:pt x="696" y="320"/>
                  </a:cubicBezTo>
                  <a:cubicBezTo>
                    <a:pt x="640" y="216"/>
                    <a:pt x="544" y="64"/>
                    <a:pt x="456" y="32"/>
                  </a:cubicBezTo>
                  <a:cubicBezTo>
                    <a:pt x="368" y="0"/>
                    <a:pt x="240" y="72"/>
                    <a:pt x="168" y="128"/>
                  </a:cubicBezTo>
                  <a:close/>
                </a:path>
              </a:pathLst>
            </a:custGeom>
            <a:solidFill>
              <a:srgbClr val="cc9900">
                <a:alpha val="50000"/>
              </a:srgbClr>
            </a:solidFill>
            <a:ln w="1260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976520" y="5043960"/>
              <a:ext cx="45000" cy="781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cubicBezTo>
                    <a:pt x="30" y="59"/>
                    <a:pt x="41" y="79"/>
                    <a:pt x="12" y="36"/>
                  </a:cubicBezTo>
                  <a:cubicBezTo>
                    <a:pt x="5" y="25"/>
                    <a:pt x="0" y="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7952760" y="4530600"/>
              <a:ext cx="391680" cy="616320"/>
            </a:xfrm>
            <a:prstGeom prst="line">
              <a:avLst/>
            </a:prstGeom>
            <a:ln w="9360">
              <a:solidFill>
                <a:srgbClr val="7c04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952760" y="4633200"/>
              <a:ext cx="489600" cy="513360"/>
            </a:xfrm>
            <a:prstGeom prst="line">
              <a:avLst/>
            </a:prstGeom>
            <a:ln w="9360">
              <a:solidFill>
                <a:srgbClr val="7c04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52760" y="4839120"/>
              <a:ext cx="293760" cy="30744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288"/>
                  </a:moveTo>
                  <a:lnTo>
                    <a:pt x="192" y="0"/>
                  </a:lnTo>
                  <a:lnTo>
                    <a:pt x="288" y="0"/>
                  </a:lnTo>
                  <a:lnTo>
                    <a:pt x="0" y="288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7c04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5583240" y="5245200"/>
            <a:ext cx="622440" cy="546120"/>
          </a:xfrm>
          <a:custGeom>
            <a:avLst/>
            <a:gdLst/>
            <a:ahLst/>
            <a:rect l="l" t="t" r="r" b="b"/>
            <a:pathLst>
              <a:path w="728" h="448">
                <a:moveTo>
                  <a:pt x="248" y="8"/>
                </a:moveTo>
                <a:cubicBezTo>
                  <a:pt x="160" y="0"/>
                  <a:pt x="192" y="24"/>
                  <a:pt x="152" y="56"/>
                </a:cubicBezTo>
                <a:cubicBezTo>
                  <a:pt x="112" y="88"/>
                  <a:pt x="16" y="168"/>
                  <a:pt x="8" y="200"/>
                </a:cubicBezTo>
                <a:cubicBezTo>
                  <a:pt x="0" y="232"/>
                  <a:pt x="88" y="216"/>
                  <a:pt x="104" y="248"/>
                </a:cubicBezTo>
                <a:cubicBezTo>
                  <a:pt x="120" y="280"/>
                  <a:pt x="80" y="360"/>
                  <a:pt x="104" y="392"/>
                </a:cubicBezTo>
                <a:cubicBezTo>
                  <a:pt x="128" y="424"/>
                  <a:pt x="176" y="448"/>
                  <a:pt x="248" y="440"/>
                </a:cubicBezTo>
                <a:cubicBezTo>
                  <a:pt x="320" y="432"/>
                  <a:pt x="464" y="400"/>
                  <a:pt x="536" y="344"/>
                </a:cubicBezTo>
                <a:cubicBezTo>
                  <a:pt x="608" y="288"/>
                  <a:pt x="728" y="160"/>
                  <a:pt x="680" y="104"/>
                </a:cubicBezTo>
                <a:cubicBezTo>
                  <a:pt x="632" y="48"/>
                  <a:pt x="336" y="16"/>
                  <a:pt x="248" y="8"/>
                </a:cubicBezTo>
                <a:close/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2560" y="5064120"/>
            <a:ext cx="525600" cy="487440"/>
          </a:xfrm>
          <a:custGeom>
            <a:avLst/>
            <a:gdLst/>
            <a:ahLst/>
            <a:rect l="l" t="t" r="r" b="b"/>
            <a:pathLst>
              <a:path w="576" h="600">
                <a:moveTo>
                  <a:pt x="96" y="152"/>
                </a:moveTo>
                <a:cubicBezTo>
                  <a:pt x="56" y="200"/>
                  <a:pt x="0" y="256"/>
                  <a:pt x="0" y="296"/>
                </a:cubicBezTo>
                <a:cubicBezTo>
                  <a:pt x="0" y="336"/>
                  <a:pt x="56" y="344"/>
                  <a:pt x="96" y="392"/>
                </a:cubicBezTo>
                <a:cubicBezTo>
                  <a:pt x="136" y="440"/>
                  <a:pt x="168" y="568"/>
                  <a:pt x="240" y="584"/>
                </a:cubicBezTo>
                <a:cubicBezTo>
                  <a:pt x="312" y="600"/>
                  <a:pt x="480" y="552"/>
                  <a:pt x="528" y="488"/>
                </a:cubicBezTo>
                <a:cubicBezTo>
                  <a:pt x="576" y="424"/>
                  <a:pt x="576" y="280"/>
                  <a:pt x="528" y="200"/>
                </a:cubicBezTo>
                <a:cubicBezTo>
                  <a:pt x="480" y="120"/>
                  <a:pt x="312" y="16"/>
                  <a:pt x="240" y="8"/>
                </a:cubicBezTo>
                <a:cubicBezTo>
                  <a:pt x="168" y="0"/>
                  <a:pt x="136" y="104"/>
                  <a:pt x="96" y="152"/>
                </a:cubicBezTo>
                <a:close/>
              </a:path>
            </a:pathLst>
          </a:cu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446880" y="5130720"/>
            <a:ext cx="943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6446880" y="5133960"/>
            <a:ext cx="94320" cy="28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0200" y="5283360"/>
            <a:ext cx="201780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65920" y="5361120"/>
            <a:ext cx="201744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78440" y="5283360"/>
            <a:ext cx="201780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89520" y="5203800"/>
            <a:ext cx="2019240" cy="19512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5719680" y="5354640"/>
            <a:ext cx="98280" cy="101160"/>
            <a:chOff x="5719680" y="5354640"/>
            <a:chExt cx="98280" cy="101160"/>
          </a:xfrm>
        </p:grpSpPr>
        <p:sp>
          <p:nvSpPr>
            <p:cNvPr id="293" name=""/>
            <p:cNvSpPr/>
            <p:nvPr/>
          </p:nvSpPr>
          <p:spPr>
            <a:xfrm>
              <a:off x="5747040" y="5388120"/>
              <a:ext cx="43560" cy="38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719680" y="5354640"/>
              <a:ext cx="54720" cy="52920"/>
            </a:xfrm>
            <a:custGeom>
              <a:avLst/>
              <a:gdLst/>
              <a:ahLst/>
              <a:rect l="l" t="t" r="r" b="b"/>
              <a:pathLst>
                <a:path w="60" h="66">
                  <a:moveTo>
                    <a:pt x="60" y="66"/>
                  </a:moveTo>
                  <a:cubicBezTo>
                    <a:pt x="49" y="55"/>
                    <a:pt x="34" y="48"/>
                    <a:pt x="24" y="36"/>
                  </a:cubicBezTo>
                  <a:cubicBezTo>
                    <a:pt x="15" y="25"/>
                    <a:pt x="0" y="0"/>
                    <a:pt x="0" y="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79800" y="5354640"/>
              <a:ext cx="16560" cy="43200"/>
            </a:xfrm>
            <a:custGeom>
              <a:avLst/>
              <a:gdLst/>
              <a:ahLst/>
              <a:rect l="l" t="t" r="r" b="b"/>
              <a:pathLst>
                <a:path w="18" h="54">
                  <a:moveTo>
                    <a:pt x="0" y="54"/>
                  </a:moveTo>
                  <a:cubicBezTo>
                    <a:pt x="7" y="33"/>
                    <a:pt x="18" y="22"/>
                    <a:pt x="18" y="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36240" y="5407560"/>
              <a:ext cx="38160" cy="48240"/>
            </a:xfrm>
            <a:custGeom>
              <a:avLst/>
              <a:gdLst/>
              <a:ahLst/>
              <a:rect l="l" t="t" r="r" b="b"/>
              <a:pathLst>
                <a:path w="42" h="60">
                  <a:moveTo>
                    <a:pt x="42" y="0"/>
                  </a:moveTo>
                  <a:cubicBezTo>
                    <a:pt x="28" y="22"/>
                    <a:pt x="0" y="32"/>
                    <a:pt x="0" y="6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69000" y="5417280"/>
              <a:ext cx="48960" cy="2556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0" y="0"/>
                  </a:moveTo>
                  <a:cubicBezTo>
                    <a:pt x="12" y="4"/>
                    <a:pt x="29" y="1"/>
                    <a:pt x="36" y="12"/>
                  </a:cubicBezTo>
                  <a:cubicBezTo>
                    <a:pt x="49" y="32"/>
                    <a:pt x="41" y="30"/>
                    <a:pt x="54" y="30"/>
                  </a:cubicBezTo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5851440" y="5462640"/>
            <a:ext cx="42840" cy="38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440" bIns="-194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824440" y="5427720"/>
            <a:ext cx="54000" cy="5400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84920" y="5427720"/>
            <a:ext cx="15840" cy="4428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840280" y="5481720"/>
            <a:ext cx="38160" cy="4896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873760" y="5491080"/>
            <a:ext cx="49320" cy="2700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94280" y="5345280"/>
            <a:ext cx="4464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67280" y="5310360"/>
            <a:ext cx="55800" cy="5364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27760" y="5310360"/>
            <a:ext cx="15840" cy="4428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84920" y="5364000"/>
            <a:ext cx="38160" cy="4932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16600" y="5373720"/>
            <a:ext cx="49320" cy="2700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83200" y="5477040"/>
            <a:ext cx="44640" cy="37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4760" y="5442120"/>
            <a:ext cx="55440" cy="5364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4880" y="5442120"/>
            <a:ext cx="17640" cy="4428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72040" y="5495760"/>
            <a:ext cx="38160" cy="4932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04080" y="5505480"/>
            <a:ext cx="48960" cy="2700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38920" y="5554800"/>
            <a:ext cx="44280" cy="39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720" bIns="-187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1920" y="5521320"/>
            <a:ext cx="54000" cy="52560"/>
          </a:xfrm>
          <a:custGeom>
            <a:avLst/>
            <a:gdLst/>
            <a:ahLst/>
            <a:rect l="l" t="t" r="r" b="b"/>
            <a:pathLst>
              <a:path w="60" h="66">
                <a:moveTo>
                  <a:pt x="60" y="66"/>
                </a:moveTo>
                <a:cubicBezTo>
                  <a:pt x="49" y="55"/>
                  <a:pt x="34" y="48"/>
                  <a:pt x="24" y="36"/>
                </a:cubicBezTo>
                <a:cubicBezTo>
                  <a:pt x="15" y="25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72040" y="5521320"/>
            <a:ext cx="17640" cy="42840"/>
          </a:xfrm>
          <a:custGeom>
            <a:avLst/>
            <a:gdLst/>
            <a:ahLst/>
            <a:rect l="l" t="t" r="r" b="b"/>
            <a:pathLst>
              <a:path w="18" h="54">
                <a:moveTo>
                  <a:pt x="0" y="54"/>
                </a:moveTo>
                <a:cubicBezTo>
                  <a:pt x="7" y="33"/>
                  <a:pt x="18" y="22"/>
                  <a:pt x="18" y="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7760" y="5573880"/>
            <a:ext cx="38160" cy="48960"/>
          </a:xfrm>
          <a:custGeom>
            <a:avLst/>
            <a:gdLst/>
            <a:ahLst/>
            <a:rect l="l" t="t" r="r" b="b"/>
            <a:pathLst>
              <a:path w="42" h="60">
                <a:moveTo>
                  <a:pt x="42" y="0"/>
                </a:moveTo>
                <a:cubicBezTo>
                  <a:pt x="28" y="22"/>
                  <a:pt x="0" y="32"/>
                  <a:pt x="0" y="6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61240" y="5584680"/>
            <a:ext cx="48960" cy="24120"/>
          </a:xfrm>
          <a:custGeom>
            <a:avLst/>
            <a:gdLst/>
            <a:ahLst/>
            <a:rect l="l" t="t" r="r" b="b"/>
            <a:pathLst>
              <a:path w="54" h="32">
                <a:moveTo>
                  <a:pt x="0" y="0"/>
                </a:moveTo>
                <a:cubicBezTo>
                  <a:pt x="12" y="4"/>
                  <a:pt x="29" y="1"/>
                  <a:pt x="36" y="12"/>
                </a:cubicBezTo>
                <a:cubicBezTo>
                  <a:pt x="49" y="32"/>
                  <a:pt x="41" y="30"/>
                  <a:pt x="54" y="30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19920" y="5262480"/>
            <a:ext cx="2016000" cy="195480"/>
          </a:xfrm>
          <a:custGeom>
            <a:avLst/>
            <a:gdLst/>
            <a:ahLst/>
            <a:rect l="l" t="t" r="r" b="b"/>
            <a:pathLst>
              <a:path w="2208" h="240">
                <a:moveTo>
                  <a:pt x="0" y="240"/>
                </a:moveTo>
                <a:cubicBezTo>
                  <a:pt x="68" y="164"/>
                  <a:pt x="136" y="88"/>
                  <a:pt x="288" y="48"/>
                </a:cubicBezTo>
                <a:cubicBezTo>
                  <a:pt x="440" y="8"/>
                  <a:pt x="688" y="0"/>
                  <a:pt x="912" y="0"/>
                </a:cubicBezTo>
                <a:cubicBezTo>
                  <a:pt x="1136" y="0"/>
                  <a:pt x="1448" y="16"/>
                  <a:pt x="1632" y="48"/>
                </a:cubicBezTo>
                <a:cubicBezTo>
                  <a:pt x="1816" y="80"/>
                  <a:pt x="1936" y="168"/>
                  <a:pt x="2016" y="192"/>
                </a:cubicBezTo>
                <a:cubicBezTo>
                  <a:pt x="2096" y="216"/>
                  <a:pt x="2080" y="200"/>
                  <a:pt x="2112" y="192"/>
                </a:cubicBezTo>
                <a:cubicBezTo>
                  <a:pt x="2144" y="184"/>
                  <a:pt x="2176" y="164"/>
                  <a:pt x="2208" y="14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974000" y="5365800"/>
            <a:ext cx="46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001000" y="5410080"/>
            <a:ext cx="4932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21800" y="5240160"/>
            <a:ext cx="41040" cy="195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929720" y="5262480"/>
            <a:ext cx="180720" cy="604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016840" y="5219640"/>
            <a:ext cx="44640" cy="7776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978680" y="5435640"/>
            <a:ext cx="160560" cy="5868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104320" y="5494320"/>
            <a:ext cx="9972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50320" y="5435640"/>
            <a:ext cx="2196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007480" y="5327640"/>
            <a:ext cx="11412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27920" y="5443560"/>
            <a:ext cx="64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56720" y="5487840"/>
            <a:ext cx="4896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877160" y="5318280"/>
            <a:ext cx="41400" cy="1936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885080" y="5340240"/>
            <a:ext cx="181080" cy="604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974000" y="5297400"/>
            <a:ext cx="42840" cy="7956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34400" y="5511960"/>
            <a:ext cx="158760" cy="6012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059680" y="5570640"/>
            <a:ext cx="1000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005680" y="5511960"/>
            <a:ext cx="2232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62840" y="5405400"/>
            <a:ext cx="11448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42240" y="5365800"/>
            <a:ext cx="46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69240" y="5410080"/>
            <a:ext cx="5076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790040" y="5240160"/>
            <a:ext cx="41040" cy="195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99400" y="5262480"/>
            <a:ext cx="181080" cy="604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85080" y="5219640"/>
            <a:ext cx="44640" cy="7776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46920" y="5435640"/>
            <a:ext cx="160560" cy="5868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974000" y="5494320"/>
            <a:ext cx="982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0000" y="5435640"/>
            <a:ext cx="2052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75720" y="5327640"/>
            <a:ext cx="11412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754760" y="5286240"/>
            <a:ext cx="5040" cy="651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81760" y="5332320"/>
            <a:ext cx="49320" cy="2880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702560" y="5160960"/>
            <a:ext cx="41400" cy="19512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759800" y="5356080"/>
            <a:ext cx="160200" cy="5904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885080" y="5415120"/>
            <a:ext cx="982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31080" y="5356080"/>
            <a:ext cx="22320" cy="5904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788240" y="5248440"/>
            <a:ext cx="114480" cy="5364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202600" y="5597640"/>
            <a:ext cx="49320" cy="48960"/>
          </a:xfrm>
          <a:custGeom>
            <a:avLst/>
            <a:gdLst>
              <a:gd name="textAreaLeft" fmla="*/ 11520 w 49320"/>
              <a:gd name="textAreaRight" fmla="*/ 37800 w 49320"/>
              <a:gd name="textAreaTop" fmla="*/ 5760 h 48960"/>
              <a:gd name="textAreaBottom" fmla="*/ 30600 h 489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710480" y="5184720"/>
            <a:ext cx="181080" cy="5868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81920" y="5345280"/>
            <a:ext cx="6480" cy="63360"/>
          </a:xfrm>
          <a:custGeom>
            <a:avLst/>
            <a:gdLst/>
            <a:ahLst/>
            <a:rect l="l" t="t" r="r" b="b"/>
            <a:pathLst>
              <a:path w="6" h="78">
                <a:moveTo>
                  <a:pt x="0" y="78"/>
                </a:moveTo>
                <a:cubicBezTo>
                  <a:pt x="2" y="52"/>
                  <a:pt x="6" y="0"/>
                  <a:pt x="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010360" y="5389560"/>
            <a:ext cx="49320" cy="30240"/>
          </a:xfrm>
          <a:custGeom>
            <a:avLst/>
            <a:gdLst/>
            <a:ahLst/>
            <a:rect l="l" t="t" r="r" b="b"/>
            <a:pathLst>
              <a:path w="54" h="36">
                <a:moveTo>
                  <a:pt x="0" y="0"/>
                </a:moveTo>
                <a:cubicBezTo>
                  <a:pt x="9" y="26"/>
                  <a:pt x="27" y="36"/>
                  <a:pt x="54" y="3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931160" y="5219640"/>
            <a:ext cx="41400" cy="195480"/>
          </a:xfrm>
          <a:custGeom>
            <a:avLst/>
            <a:gdLst/>
            <a:ahLst/>
            <a:rect l="l" t="t" r="r" b="b"/>
            <a:pathLst>
              <a:path w="45" h="240">
                <a:moveTo>
                  <a:pt x="21" y="240"/>
                </a:moveTo>
                <a:cubicBezTo>
                  <a:pt x="14" y="165"/>
                  <a:pt x="0" y="94"/>
                  <a:pt x="15" y="18"/>
                </a:cubicBezTo>
                <a:cubicBezTo>
                  <a:pt x="17" y="7"/>
                  <a:pt x="37" y="8"/>
                  <a:pt x="4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939080" y="5241960"/>
            <a:ext cx="181080" cy="60120"/>
          </a:xfrm>
          <a:custGeom>
            <a:avLst/>
            <a:gdLst/>
            <a:ahLst/>
            <a:rect l="l" t="t" r="r" b="b"/>
            <a:pathLst>
              <a:path w="198" h="73">
                <a:moveTo>
                  <a:pt x="0" y="43"/>
                </a:moveTo>
                <a:cubicBezTo>
                  <a:pt x="24" y="51"/>
                  <a:pt x="42" y="65"/>
                  <a:pt x="66" y="73"/>
                </a:cubicBezTo>
                <a:cubicBezTo>
                  <a:pt x="86" y="71"/>
                  <a:pt x="107" y="73"/>
                  <a:pt x="126" y="67"/>
                </a:cubicBezTo>
                <a:cubicBezTo>
                  <a:pt x="158" y="57"/>
                  <a:pt x="139" y="24"/>
                  <a:pt x="156" y="7"/>
                </a:cubicBezTo>
                <a:cubicBezTo>
                  <a:pt x="163" y="0"/>
                  <a:pt x="188" y="1"/>
                  <a:pt x="198" y="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028000" y="5199120"/>
            <a:ext cx="42840" cy="7920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cubicBezTo>
                  <a:pt x="30" y="59"/>
                  <a:pt x="41" y="79"/>
                  <a:pt x="12" y="36"/>
                </a:cubicBezTo>
                <a:cubicBezTo>
                  <a:pt x="5" y="25"/>
                  <a:pt x="0" y="0"/>
                  <a:pt x="0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988400" y="5415120"/>
            <a:ext cx="158760" cy="58680"/>
          </a:xfrm>
          <a:custGeom>
            <a:avLst/>
            <a:gdLst/>
            <a:ahLst/>
            <a:rect l="l" t="t" r="r" b="b"/>
            <a:pathLst>
              <a:path w="174" h="74">
                <a:moveTo>
                  <a:pt x="0" y="0"/>
                </a:moveTo>
                <a:cubicBezTo>
                  <a:pt x="13" y="64"/>
                  <a:pt x="40" y="58"/>
                  <a:pt x="96" y="66"/>
                </a:cubicBezTo>
                <a:cubicBezTo>
                  <a:pt x="146" y="61"/>
                  <a:pt x="174" y="74"/>
                  <a:pt x="174" y="2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113680" y="5473800"/>
            <a:ext cx="98280" cy="90360"/>
          </a:xfrm>
          <a:custGeom>
            <a:avLst/>
            <a:gdLst/>
            <a:ahLst/>
            <a:rect l="l" t="t" r="r" b="b"/>
            <a:pathLst>
              <a:path w="108" h="112">
                <a:moveTo>
                  <a:pt x="0" y="0"/>
                </a:moveTo>
                <a:cubicBezTo>
                  <a:pt x="2" y="26"/>
                  <a:pt x="0" y="53"/>
                  <a:pt x="6" y="78"/>
                </a:cubicBezTo>
                <a:cubicBezTo>
                  <a:pt x="15" y="112"/>
                  <a:pt x="87" y="108"/>
                  <a:pt x="108" y="10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059680" y="5415120"/>
            <a:ext cx="22320" cy="58680"/>
          </a:xfrm>
          <a:custGeom>
            <a:avLst/>
            <a:gdLst/>
            <a:ahLst/>
            <a:rect l="l" t="t" r="r" b="b"/>
            <a:pathLst>
              <a:path w="24" h="72">
                <a:moveTo>
                  <a:pt x="0" y="72"/>
                </a:moveTo>
                <a:cubicBezTo>
                  <a:pt x="1" y="67"/>
                  <a:pt x="9" y="25"/>
                  <a:pt x="12" y="18"/>
                </a:cubicBezTo>
                <a:cubicBezTo>
                  <a:pt x="15" y="11"/>
                  <a:pt x="24" y="0"/>
                  <a:pt x="24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015400" y="5307120"/>
            <a:ext cx="115920" cy="54000"/>
          </a:xfrm>
          <a:custGeom>
            <a:avLst/>
            <a:gdLst/>
            <a:ahLst/>
            <a:rect l="l" t="t" r="r" b="b"/>
            <a:pathLst>
              <a:path w="126" h="66">
                <a:moveTo>
                  <a:pt x="0" y="0"/>
                </a:moveTo>
                <a:cubicBezTo>
                  <a:pt x="14" y="42"/>
                  <a:pt x="48" y="58"/>
                  <a:pt x="90" y="66"/>
                </a:cubicBezTo>
                <a:cubicBezTo>
                  <a:pt x="102" y="64"/>
                  <a:pt x="126" y="60"/>
                  <a:pt x="126" y="6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41040" y="477360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retrograde’</a:t>
            </a:r>
            <a:endParaRPr b="0" lang="en-US" sz="1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notated XM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523880" y="1981080"/>
          <a:ext cx="746784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81080"/>
                    <a:ext cx="746784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"/>
          <p:cNvSpPr/>
          <p:nvPr/>
        </p:nvSpPr>
        <p:spPr>
          <a:xfrm>
            <a:off x="1245960" y="1631880"/>
            <a:ext cx="649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92929"/>
                </a:solidFill>
                <a:latin typeface="Arial"/>
              </a:rPr>
              <a:t>Example from Albanese &amp; Minciacchi, 1983, JCN 216:406-420</a:t>
            </a:r>
            <a:endParaRPr b="0" lang="en-US" sz="18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0000" y="2590920"/>
            <a:ext cx="10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expt. label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delineation 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injection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labeling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92929"/>
                </a:solidFill>
                <a:latin typeface="Arial"/>
              </a:rPr>
              <a:t>description</a:t>
            </a: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47600" y="2666880"/>
            <a:ext cx="304920" cy="1526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7600" y="3024360"/>
            <a:ext cx="304920" cy="15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7600" y="3201840"/>
            <a:ext cx="304920" cy="152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7600" y="3381480"/>
            <a:ext cx="304920" cy="152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47600" y="2844720"/>
            <a:ext cx="304920" cy="152640"/>
          </a:xfrm>
          <a:prstGeom prst="rect">
            <a:avLst/>
          </a:prstGeom>
          <a:noFill/>
          <a:ln w="1260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8T21:18:11Z</dcterms:created>
  <dc:creator>Gully Burns</dc:creator>
  <dc:description/>
  <dc:language>en-US</dc:language>
  <cp:lastModifiedBy>Gully APC Burns</cp:lastModifiedBy>
  <dcterms:modified xsi:type="dcterms:W3CDTF">2006-12-01T19:59:37Z</dcterms:modified>
  <cp:revision>160</cp:revision>
  <dc:subject/>
  <dc:title>The management of Neuroanatomical Knowledge</dc:title>
</cp:coreProperties>
</file>